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gif" ContentType="image/gif"/>
  <Override PartName="/ppt/media/image25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gif" ContentType="image/gif"/>
  <Override PartName="/ppt/media/image65.png" ContentType="image/png"/>
  <Override PartName="/ppt/media/image27.png" ContentType="image/png"/>
  <Override PartName="/ppt/media/image33.jpeg" ContentType="image/jpe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64.png" ContentType="image/png"/>
  <Override PartName="/ppt/media/image60.jpeg" ContentType="image/jpeg"/>
  <Override PartName="/ppt/media/image30.png" ContentType="image/png"/>
  <Override PartName="/ppt/media/image66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63.png" ContentType="image/png"/>
  <Override PartName="/ppt/media/image16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9AF-E8CA-459A-8D6D-63FC410D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159-3153-424D-99D9-32F0BF7D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6C8-E465-4606-8AC8-15F951F9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BC1-0AF1-487B-BD43-9760C86A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D3F0-1568-4DE6-8498-92397983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AB20-1489-4EEF-96E1-80018F3B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98DF-0C05-459A-91B5-1A39CD25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B2BF-063D-403C-B6A6-B278B636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0A35-2BAD-4718-AFD8-73912C53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E76B-D1E4-45BA-A00F-02723C79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FF7F-CB7D-4C52-98AB-DDA7872F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6B8-ED3F-4D44-A47B-26994075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48D2-FF27-4331-906D-E8FC5D70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0A74-8DFA-4C7A-A3FE-3CD84AA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E767-AD28-4169-86A0-7D5E4E83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68B2-423D-4768-A6B3-20FBE2B7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F54D-7D41-44D4-A216-2FDDB4D3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A0E7-ED34-4610-9EDD-BE48D7AD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A6BC-BB31-4664-A829-4F109572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6BDE-48B0-4BE8-B36E-331D35B7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853D-8C55-4DD8-BD02-56727B9F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99C24-E6C1-4DA7-A303-C98F44B4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C07-B546-4F5E-ADA8-D0F7FB9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3300F-9A2F-4A0A-8933-63021A57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985A-2FF7-4887-8D91-0795F81A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49E95-6C80-42C4-A66D-12232420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4390-7F84-4257-9986-44A1D9C2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417B-6A6A-49FC-85BA-6E99D08C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86E1-08AA-45F5-84AC-9233224E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4F00-BC27-4204-B5F3-76D03651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B3DB-2F71-4B9D-A3EE-A2F4C5EF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EFB4-70E1-4FF5-AA4F-5C4651C0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3104-4024-4520-BCFE-5162BA2C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3C7-439D-43D2-9CBD-05F0E755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0E5E-2E61-4178-9281-7ED81FC8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70A28-C1E0-41BD-87CC-DA497E24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F7D7-C322-4A9C-A9C9-B59FEC43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B32F-0222-48FD-B1FF-7AAD718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030BF-9C7A-426D-AB02-EFFC0FC9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4F0F-F02B-4ADF-825A-E509C471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BC08B-0F42-4D5D-982B-41122161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C388D-5FD3-4861-9B46-44F0B7F8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1256A-6DDA-4DFE-BC60-E1A1EA9B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5BD-9B6C-41BC-81C3-B197F0E1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F4B-0903-41AD-96FD-33B0BB19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BB7-C750-4988-A290-86DE6B20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8C7-E875-4115-A8BF-77D8BD3E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28D-793B-444C-9B43-2B5F0AB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25.xml"/><Relationship Id="rId33" Type="http://schemas.openxmlformats.org/officeDocument/2006/relationships/slideLayout" Target="../slideLayouts/slideLayout26.xml"/><Relationship Id="rId34" Type="http://schemas.openxmlformats.org/officeDocument/2006/relationships/slideLayout" Target="../slideLayouts/slideLayout27.xml"/><Relationship Id="rId35" Type="http://schemas.openxmlformats.org/officeDocument/2006/relationships/slideLayout" Target="../slideLayouts/slideLayout28.xml"/><Relationship Id="rId36" Type="http://schemas.openxmlformats.org/officeDocument/2006/relationships/slideLayout" Target="../slideLayouts/slideLayout29.xml"/><Relationship Id="rId37" Type="http://schemas.openxmlformats.org/officeDocument/2006/relationships/slideLayout" Target="../slideLayouts/slideLayout30.xml"/><Relationship Id="rId38" Type="http://schemas.openxmlformats.org/officeDocument/2006/relationships/slideLayout" Target="../slideLayouts/slideLayout31.xml"/><Relationship Id="rId39" Type="http://schemas.openxmlformats.org/officeDocument/2006/relationships/slideLayout" Target="../slideLayouts/slideLayout32.xml"/><Relationship Id="rId40" Type="http://schemas.openxmlformats.org/officeDocument/2006/relationships/slideLayout" Target="../slideLayouts/slideLayout33.xml"/><Relationship Id="rId41" Type="http://schemas.openxmlformats.org/officeDocument/2006/relationships/slideLayout" Target="../slideLayouts/slideLayout34.xml"/><Relationship Id="rId42" Type="http://schemas.openxmlformats.org/officeDocument/2006/relationships/slideLayout" Target="../slideLayouts/slideLayout35.xml"/><Relationship Id="rId4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37.xml"/><Relationship Id="rId33" Type="http://schemas.openxmlformats.org/officeDocument/2006/relationships/slideLayout" Target="../slideLayouts/slideLayout38.xml"/><Relationship Id="rId34" Type="http://schemas.openxmlformats.org/officeDocument/2006/relationships/slideLayout" Target="../slideLayouts/slideLayout39.xml"/><Relationship Id="rId35" Type="http://schemas.openxmlformats.org/officeDocument/2006/relationships/slideLayout" Target="../slideLayouts/slideLayout40.xml"/><Relationship Id="rId36" Type="http://schemas.openxmlformats.org/officeDocument/2006/relationships/slideLayout" Target="../slideLayouts/slideLayout41.xml"/><Relationship Id="rId37" Type="http://schemas.openxmlformats.org/officeDocument/2006/relationships/slideLayout" Target="../slideLayouts/slideLayout42.xml"/><Relationship Id="rId38" Type="http://schemas.openxmlformats.org/officeDocument/2006/relationships/slideLayout" Target="../slideLayouts/slideLayout43.xml"/><Relationship Id="rId39" Type="http://schemas.openxmlformats.org/officeDocument/2006/relationships/slideLayout" Target="../slideLayouts/slideLayout44.xml"/><Relationship Id="rId40" Type="http://schemas.openxmlformats.org/officeDocument/2006/relationships/slideLayout" Target="../slideLayouts/slideLayout45.xml"/><Relationship Id="rId41" Type="http://schemas.openxmlformats.org/officeDocument/2006/relationships/slideLayout" Target="../slideLayouts/slideLayout46.xml"/><Relationship Id="rId42" Type="http://schemas.openxmlformats.org/officeDocument/2006/relationships/slideLayout" Target="../slideLayouts/slideLayout47.xml"/><Relationship Id="rId4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658C-6FE8-4D85-93A8-B5EAF09A51E6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335D-7FB3-4953-B4E0-3476F1BB5963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37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38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45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48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55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3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164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165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7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68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71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3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74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6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77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9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80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2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83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5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86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5933-E2CF-4039-88E5-422046D320DB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2"/>
    <p:sldLayoutId id="2147483676" r:id="rId33"/>
    <p:sldLayoutId id="2147483677" r:id="rId34"/>
    <p:sldLayoutId id="2147483678" r:id="rId35"/>
    <p:sldLayoutId id="2147483679" r:id="rId36"/>
    <p:sldLayoutId id="2147483680" r:id="rId37"/>
    <p:sldLayoutId id="2147483681" r:id="rId38"/>
    <p:sldLayoutId id="2147483682" r:id="rId39"/>
    <p:sldLayoutId id="2147483683" r:id="rId40"/>
    <p:sldLayoutId id="2147483684" r:id="rId41"/>
    <p:sldLayoutId id="2147483685" r:id="rId42"/>
    <p:sldLayoutId id="2147483686" r:id="rId4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ecff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4f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6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257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258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261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3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264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6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267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9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270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273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5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276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279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32EF-5B9D-445D-833F-A1DB3E41995F}" type="slidenum"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2"/>
    <p:sldLayoutId id="2147483689" r:id="rId33"/>
    <p:sldLayoutId id="2147483690" r:id="rId34"/>
    <p:sldLayoutId id="2147483691" r:id="rId35"/>
    <p:sldLayoutId id="2147483692" r:id="rId36"/>
    <p:sldLayoutId id="2147483693" r:id="rId37"/>
    <p:sldLayoutId id="2147483694" r:id="rId38"/>
    <p:sldLayoutId id="2147483695" r:id="rId39"/>
    <p:sldLayoutId id="2147483696" r:id="rId40"/>
    <p:sldLayoutId id="2147483697" r:id="rId41"/>
    <p:sldLayoutId id="2147483698" r:id="rId42"/>
    <p:sldLayoutId id="2147483699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5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676080"/>
            <a:ext cx="7416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23" name="Рисунок 6" descr="Это Я - сентябрь 2012.JPG"/>
          <p:cNvPicPr/>
          <p:nvPr/>
        </p:nvPicPr>
        <p:blipFill>
          <a:blip r:embed="rId2"/>
          <a:stretch/>
        </p:blipFill>
        <p:spPr>
          <a:xfrm>
            <a:off x="642960" y="3000240"/>
            <a:ext cx="1731960" cy="259740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2643120" y="3143160"/>
            <a:ext cx="62150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дежда Валентин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Учитель химии ГБОУ СОШ № 422 Кронштадтского рай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286080" y="578340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Санкт-Петербур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95480" y="2146320"/>
            <a:ext cx="3432240" cy="2425680"/>
          </a:xfrm>
          <a:prstGeom prst="rect">
            <a:avLst/>
          </a:prstGeom>
          <a:ln w="0">
            <a:noFill/>
          </a:ln>
        </p:spPr>
      </p:pic>
      <p:grpSp>
        <p:nvGrpSpPr>
          <p:cNvPr id="447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448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0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451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3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454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6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457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9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460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2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463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465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6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7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8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9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70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71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extBox 3" descr=""/>
          <p:cNvPicPr/>
          <p:nvPr/>
        </p:nvPicPr>
        <p:blipFill>
          <a:blip r:embed="rId1"/>
          <a:stretch/>
        </p:blipFill>
        <p:spPr>
          <a:xfrm>
            <a:off x="212760" y="85680"/>
            <a:ext cx="8791560" cy="1523880"/>
          </a:xfrm>
          <a:prstGeom prst="rect">
            <a:avLst/>
          </a:prstGeom>
          <a:ln w="0">
            <a:noFill/>
          </a:ln>
        </p:spPr>
      </p:pic>
      <p:sp>
        <p:nvSpPr>
          <p:cNvPr id="478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0" y="1868400"/>
            <a:ext cx="914400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(OH)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3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+ 3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  <a:ea typeface="Calibri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Calibri"/>
              </a:rPr>
              <a:t>)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Box 30"/>
          <p:cNvSpPr/>
          <p:nvPr/>
        </p:nvSpPr>
        <p:spPr>
          <a:xfrm>
            <a:off x="1928880" y="5929200"/>
            <a:ext cx="20001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FeCl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Verdana"/>
                <a:ea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99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Box 36"/>
          <p:cNvSpPr/>
          <p:nvPr/>
        </p:nvSpPr>
        <p:spPr>
          <a:xfrm>
            <a:off x="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TextBox 18" descr=""/>
          <p:cNvPicPr/>
          <p:nvPr/>
        </p:nvPicPr>
        <p:blipFill>
          <a:blip r:embed="rId2"/>
          <a:stretch/>
        </p:blipFill>
        <p:spPr>
          <a:xfrm>
            <a:off x="4846680" y="5705640"/>
            <a:ext cx="230328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extBox 3" descr=""/>
          <p:cNvPicPr/>
          <p:nvPr/>
        </p:nvPicPr>
        <p:blipFill>
          <a:blip r:embed="rId1"/>
          <a:stretch/>
        </p:blipFill>
        <p:spPr>
          <a:xfrm>
            <a:off x="182520" y="85680"/>
            <a:ext cx="9004320" cy="1523880"/>
          </a:xfrm>
          <a:prstGeom prst="rect">
            <a:avLst/>
          </a:prstGeom>
          <a:ln w="0">
            <a:noFill/>
          </a:ln>
        </p:spPr>
      </p:pic>
      <p:sp>
        <p:nvSpPr>
          <p:cNvPr id="492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cc66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285840" y="1714680"/>
            <a:ext cx="857232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+ 2 Na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Fe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5143680" y="5857920"/>
            <a:ext cx="1857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Box 36"/>
          <p:cNvSpPr/>
          <p:nvPr/>
        </p:nvSpPr>
        <p:spPr>
          <a:xfrm>
            <a:off x="214200" y="292896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Calibri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4" name="TextBox 18" descr=""/>
          <p:cNvPicPr/>
          <p:nvPr/>
        </p:nvPicPr>
        <p:blipFill>
          <a:blip r:embed="rId2"/>
          <a:stretch/>
        </p:blipFill>
        <p:spPr>
          <a:xfrm>
            <a:off x="4632480" y="5705640"/>
            <a:ext cx="2304720" cy="86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Любовь  как  притяжение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506" name="Рисунок 8" descr="5 видов любви. Классификация психологов "/>
          <p:cNvPicPr/>
          <p:nvPr/>
        </p:nvPicPr>
        <p:blipFill>
          <a:blip r:embed="rId2"/>
          <a:stretch/>
        </p:blipFill>
        <p:spPr>
          <a:xfrm>
            <a:off x="1952640" y="2381400"/>
            <a:ext cx="523872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9" descr="http://www.sev-chem.narod.ru/Different/love.files/image002.gif"/>
          <p:cNvPicPr/>
          <p:nvPr/>
        </p:nvPicPr>
        <p:blipFill>
          <a:blip r:embed="rId1"/>
          <a:stretch/>
        </p:blipFill>
        <p:spPr>
          <a:xfrm>
            <a:off x="209520" y="2500200"/>
            <a:ext cx="2290680" cy="100008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0"/>
          <p:cNvSpPr/>
          <p:nvPr/>
        </p:nvSpPr>
        <p:spPr>
          <a:xfrm>
            <a:off x="2714760" y="2500200"/>
            <a:ext cx="628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-фенилэтиламин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- «Вещество любви» синтезируется в организм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начальном периоде возникновения чувства любв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11"/>
          <p:cNvSpPr/>
          <p:nvPr/>
        </p:nvSpPr>
        <p:spPr>
          <a:xfrm>
            <a:off x="357120" y="364320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Эндорфи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- «гормоны радости». По мнению некоторых ученых, за развитие последующей влюбленности ответственны эндорфины, т.е. это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«молекулы долговременных любовных отношений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14"/>
          <p:cNvSpPr/>
          <p:nvPr/>
        </p:nvSpPr>
        <p:spPr>
          <a:xfrm>
            <a:off x="2714760" y="201600"/>
            <a:ext cx="3714480" cy="58140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щества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16"/>
          <p:cNvSpPr/>
          <p:nvPr/>
        </p:nvSpPr>
        <p:spPr>
          <a:xfrm>
            <a:off x="214200" y="110016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фетам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17"/>
          <p:cNvSpPr/>
          <p:nvPr/>
        </p:nvSpPr>
        <p:spPr>
          <a:xfrm>
            <a:off x="2000160" y="181440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еромо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18"/>
          <p:cNvSpPr/>
          <p:nvPr/>
        </p:nvSpPr>
        <p:spPr>
          <a:xfrm>
            <a:off x="5643720" y="181440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фродизиа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19"/>
          <p:cNvSpPr/>
          <p:nvPr/>
        </p:nvSpPr>
        <p:spPr>
          <a:xfrm>
            <a:off x="3571920" y="1071720"/>
            <a:ext cx="207180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ндорф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0"/>
          <p:cNvSpPr/>
          <p:nvPr/>
        </p:nvSpPr>
        <p:spPr>
          <a:xfrm>
            <a:off x="6643800" y="1071720"/>
            <a:ext cx="2071440" cy="398880"/>
          </a:xfrm>
          <a:prstGeom prst="rect">
            <a:avLst/>
          </a:prstGeom>
          <a:gradFill rotWithShape="0">
            <a:gsLst>
              <a:gs pos="0">
                <a:srgbClr val="ffe2bd"/>
              </a:gs>
              <a:gs pos="100000">
                <a:srgbClr val="bd8907"/>
              </a:gs>
            </a:gsLst>
            <a:lin ang="5400000"/>
          </a:gradFill>
          <a:ln cap="rnd" w="1260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ситоц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2"/>
          <p:cNvSpPr/>
          <p:nvPr/>
        </p:nvSpPr>
        <p:spPr>
          <a:xfrm>
            <a:off x="357120" y="5149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кситоци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синтезируется в гипоталамусе. Существует гипотеза, что окситоцин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ызывает чувство вер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2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4" descr="муж и жен начало 3.jpeg"/>
          <p:cNvPicPr/>
          <p:nvPr/>
        </p:nvPicPr>
        <p:blipFill>
          <a:blip r:embed="rId2"/>
          <a:stretch/>
        </p:blipFill>
        <p:spPr>
          <a:xfrm>
            <a:off x="2214720" y="800280"/>
            <a:ext cx="4635360" cy="22716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6572160" y="2714760"/>
            <a:ext cx="257184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6858000" y="2954160"/>
            <a:ext cx="242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анг – ила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мар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ргам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типгрей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асм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льма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428760" y="3000240"/>
            <a:ext cx="221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ед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ачу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анд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р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Муск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мбир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Ветив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11"/>
          <p:cNvSpPr/>
          <p:nvPr/>
        </p:nvSpPr>
        <p:spPr>
          <a:xfrm>
            <a:off x="3500280" y="3668760"/>
            <a:ext cx="27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ейпфру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ван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йное дере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ис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ал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12"/>
          <p:cNvSpPr/>
          <p:nvPr/>
        </p:nvSpPr>
        <p:spPr>
          <a:xfrm>
            <a:off x="428760" y="1546200"/>
            <a:ext cx="14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7215120" y="154620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14"/>
          <p:cNvSpPr/>
          <p:nvPr/>
        </p:nvSpPr>
        <p:spPr>
          <a:xfrm>
            <a:off x="2071800" y="30481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него и для не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500040" y="13032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фродизиаки – ароматы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857160" y="62866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озиция любв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8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9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187280" y="2858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11" descr="Жёлтая шляпа"/>
          <p:cNvPicPr/>
          <p:nvPr/>
        </p:nvPicPr>
        <p:blipFill>
          <a:blip r:embed="rId2"/>
          <a:stretch/>
        </p:blipFill>
        <p:spPr>
          <a:xfrm>
            <a:off x="1071720" y="41878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2"/>
          <p:cNvSpPr/>
          <p:nvPr/>
        </p:nvSpPr>
        <p:spPr>
          <a:xfrm>
            <a:off x="5075280" y="3860640"/>
            <a:ext cx="36399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Arial"/>
              </a:rPr>
              <a:t>Жёлтая шляпа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олнечный, жизнеутверждающий цвет. Она полна оптимизма, под ней живёт надежда и позитивное мыш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Conjure_Moon.mp3" descr=""/>
          <p:cNvPicPr/>
          <p:nvPr/>
        </p:nvPicPr>
        <p:blipFill>
          <a:blip r:embed="rId3"/>
          <a:stretch/>
        </p:blipFill>
        <p:spPr>
          <a:xfrm>
            <a:off x="21420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Красная шляпа"/>
          <p:cNvPicPr/>
          <p:nvPr/>
        </p:nvPicPr>
        <p:blipFill>
          <a:blip r:embed="rId4"/>
          <a:stretch/>
        </p:blipFill>
        <p:spPr>
          <a:xfrm>
            <a:off x="5167440" y="1714680"/>
            <a:ext cx="3119400" cy="18842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7"/>
          <p:cNvSpPr/>
          <p:nvPr/>
        </p:nvSpPr>
        <p:spPr>
          <a:xfrm>
            <a:off x="857160" y="178596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0b05"/>
                </a:solidFill>
                <a:latin typeface="Verdana"/>
                <a:ea typeface="Arial"/>
              </a:rPr>
              <a:t>Красная шляпа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восприятия действительности на уровне чувств. В ней можно отдать себя во власть эмо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3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6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222200" y="2779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187280" y="8571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2876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Чёрная шляп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– чёрный цвет мрачный, зловещий, словом – недобрый. Это критика, доходящая до въедлив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Picture 8" descr="Чёрная шляпа"/>
          <p:cNvPicPr/>
          <p:nvPr/>
        </p:nvPicPr>
        <p:blipFill>
          <a:blip r:embed="rId2"/>
          <a:stretch/>
        </p:blipFill>
        <p:spPr>
          <a:xfrm>
            <a:off x="4809960" y="1714680"/>
            <a:ext cx="3119760" cy="1884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Зелёная шляпа"/>
          <p:cNvPicPr/>
          <p:nvPr/>
        </p:nvPicPr>
        <p:blipFill>
          <a:blip r:embed="rId3"/>
          <a:stretch/>
        </p:blipFill>
        <p:spPr>
          <a:xfrm>
            <a:off x="785880" y="4143240"/>
            <a:ext cx="3119400" cy="18860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9"/>
          <p:cNvSpPr/>
          <p:nvPr/>
        </p:nvSpPr>
        <p:spPr>
          <a:xfrm>
            <a:off x="4714920" y="407196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  <a:ea typeface="Arial"/>
              </a:rPr>
              <a:t>Зелёная шляпа</a:t>
            </a:r>
            <a:r>
              <a:rPr b="1" lang="ru-RU" sz="1800" spc="-1" strike="noStrike">
                <a:solidFill>
                  <a:srgbClr val="006600"/>
                </a:solidFill>
                <a:latin typeface="Verdana"/>
                <a:ea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мвол свежей листвы, изобилия и плодородия. Она символизирует творческое начало и рассвет новых ид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5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65" nodeType="afterEffect" fill="hold" presetClass="entr" presetID="3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6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7196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187280" y="3571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«Шесть шляп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187280" y="10000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(Эдвард де Бон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973760" y="425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Белая шляпа</a:t>
            </a:r>
            <a:r>
              <a:rPr b="1" lang="ru-RU" sz="1800" spc="-1" strike="noStrike">
                <a:solidFill>
                  <a:srgbClr val="cccc00"/>
                </a:solidFill>
                <a:latin typeface="Verdana"/>
                <a:ea typeface="Arial"/>
              </a:rPr>
              <a:t> </a:t>
            </a:r>
            <a:r>
              <a:rPr b="1" lang="ru-RU" sz="1800" spc="-1" strike="noStrike">
                <a:solidFill>
                  <a:srgbClr val="e1e1e1"/>
                </a:solidFill>
                <a:latin typeface="Verdana"/>
                <a:ea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белый цвет беспристрастен и объективен. В ней «варятся» мысли, «замешанные» на цифрах и факт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11" descr="Белая шляпа"/>
          <p:cNvPicPr/>
          <p:nvPr/>
        </p:nvPicPr>
        <p:blipFill>
          <a:blip r:embed="rId1"/>
          <a:stretch/>
        </p:blipFill>
        <p:spPr>
          <a:xfrm>
            <a:off x="785880" y="4429080"/>
            <a:ext cx="3119400" cy="1884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9" descr="Синяя шляпа"/>
          <p:cNvPicPr/>
          <p:nvPr/>
        </p:nvPicPr>
        <p:blipFill>
          <a:blip r:embed="rId2"/>
          <a:stretch/>
        </p:blipFill>
        <p:spPr>
          <a:xfrm>
            <a:off x="5238720" y="1500120"/>
            <a:ext cx="3119400" cy="1884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571680" y="164304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  <a:ea typeface="Arial"/>
              </a:rPr>
              <a:t>Синяя шляпа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синий цвет холодный, это цвет неба. Она связана с организацией, обобщением того, что достигнут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3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2" descr=""/>
          <p:cNvPicPr/>
          <p:nvPr/>
        </p:nvPicPr>
        <p:blipFill>
          <a:blip r:embed="rId2"/>
          <a:stretch/>
        </p:blipFill>
        <p:spPr>
          <a:xfrm>
            <a:off x="781200" y="5924520"/>
            <a:ext cx="7581600" cy="65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09800" y="676080"/>
            <a:ext cx="7124400" cy="23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Химия  любви, </a:t>
            </a: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любовь  к  химии.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571680" y="40006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 как    хим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алит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Часть 3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 как   притяж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Рисунок 18" descr="khimicheskij_opyt_jpg.gif"/>
          <p:cNvPicPr/>
          <p:nvPr/>
        </p:nvPicPr>
        <p:blipFill>
          <a:blip r:embed="rId2"/>
          <a:stretch/>
        </p:blipFill>
        <p:spPr>
          <a:xfrm>
            <a:off x="4233960" y="3571920"/>
            <a:ext cx="2124000" cy="15429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1" descr="Аромат 5.jpeg"/>
          <p:cNvPicPr/>
          <p:nvPr/>
        </p:nvPicPr>
        <p:blipFill>
          <a:blip r:embed="rId3"/>
          <a:stretch/>
        </p:blipFill>
        <p:spPr>
          <a:xfrm>
            <a:off x="4714920" y="5411880"/>
            <a:ext cx="1857240" cy="11602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22" descr="Аромат 7.jpeg"/>
          <p:cNvPicPr/>
          <p:nvPr/>
        </p:nvPicPr>
        <p:blipFill>
          <a:blip r:embed="rId4"/>
          <a:stretch/>
        </p:blipFill>
        <p:spPr>
          <a:xfrm>
            <a:off x="7215120" y="5394240"/>
            <a:ext cx="1681200" cy="11779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23" descr="Палитра надо.jpeg"/>
          <p:cNvPicPr/>
          <p:nvPr/>
        </p:nvPicPr>
        <p:blipFill>
          <a:blip r:embed="rId5"/>
          <a:stretch/>
        </p:blipFill>
        <p:spPr>
          <a:xfrm>
            <a:off x="6572160" y="385776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5"/>
          <p:cNvSpPr/>
          <p:nvPr/>
        </p:nvSpPr>
        <p:spPr>
          <a:xfrm>
            <a:off x="142920" y="31813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: Взглянуть на предмет другими глаза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1071720" y="3000240"/>
            <a:ext cx="6643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влюблен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 +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NaCl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Georgia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3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Стрелка вправо 12"/>
          <p:cNvSpPr/>
          <p:nvPr/>
        </p:nvSpPr>
        <p:spPr>
          <a:xfrm>
            <a:off x="4214880" y="5000760"/>
            <a:ext cx="2071800" cy="28548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Цилиндр 13"/>
          <p:cNvSpPr/>
          <p:nvPr/>
        </p:nvSpPr>
        <p:spPr>
          <a:xfrm>
            <a:off x="2857680" y="4357800"/>
            <a:ext cx="571320" cy="135720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Цилиндр 14"/>
          <p:cNvSpPr/>
          <p:nvPr/>
        </p:nvSpPr>
        <p:spPr>
          <a:xfrm>
            <a:off x="2857680" y="5572080"/>
            <a:ext cx="571320" cy="1071720"/>
          </a:xfrm>
          <a:prstGeom prst="can">
            <a:avLst>
              <a:gd name="adj" fmla="val 13333"/>
            </a:avLst>
          </a:prstGeom>
          <a:solidFill>
            <a:srgbClr val="b0105c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0" y="5929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Box 18"/>
          <p:cNvSpPr/>
          <p:nvPr/>
        </p:nvSpPr>
        <p:spPr>
          <a:xfrm>
            <a:off x="0" y="33447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фенолфтале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Стрелка вправо 19"/>
          <p:cNvSpPr/>
          <p:nvPr/>
        </p:nvSpPr>
        <p:spPr>
          <a:xfrm>
            <a:off x="1785960" y="5000760"/>
            <a:ext cx="938160" cy="2854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Стрелка углом вверх 20"/>
          <p:cNvSpPr/>
          <p:nvPr/>
        </p:nvSpPr>
        <p:spPr>
          <a:xfrm rot="10800000">
            <a:off x="7715160" y="392904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428625"/>
                </a:moveTo>
                <a:lnTo>
                  <a:pt x="785813" y="428625"/>
                </a:lnTo>
                <a:lnTo>
                  <a:pt x="785813" y="142875"/>
                </a:lnTo>
                <a:lnTo>
                  <a:pt x="714375" y="142875"/>
                </a:lnTo>
                <a:lnTo>
                  <a:pt x="857250" y="0"/>
                </a:lnTo>
                <a:lnTo>
                  <a:pt x="1000125" y="142875"/>
                </a:lnTo>
                <a:lnTo>
                  <a:pt x="928688" y="142875"/>
                </a:lnTo>
                <a:lnTo>
                  <a:pt x="928688" y="571500"/>
                </a:lnTo>
                <a:lnTo>
                  <a:pt x="0" y="571500"/>
                </a:lnTo>
                <a:lnTo>
                  <a:pt x="0" y="428625"/>
                </a:lnTo>
                <a:close/>
              </a:path>
            </a:pathLst>
          </a:custGeom>
          <a:solidFill>
            <a:srgbClr val="000000"/>
          </a:solidFill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Box 21"/>
          <p:cNvSpPr/>
          <p:nvPr/>
        </p:nvSpPr>
        <p:spPr>
          <a:xfrm>
            <a:off x="8001000" y="33336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HC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страстн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Mg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Mg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Схема 6" descr=""/>
          <p:cNvPicPr/>
          <p:nvPr/>
        </p:nvPicPr>
        <p:blipFill>
          <a:blip r:embed="rId2"/>
          <a:stretch/>
        </p:blipFill>
        <p:spPr>
          <a:xfrm>
            <a:off x="360360" y="755640"/>
            <a:ext cx="8570880" cy="2487600"/>
          </a:xfrm>
          <a:prstGeom prst="rect">
            <a:avLst/>
          </a:prstGeom>
          <a:ln w="0">
            <a:noFill/>
          </a:ln>
        </p:spPr>
      </p:pic>
      <p:sp>
        <p:nvSpPr>
          <p:cNvPr id="352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4"/>
          <p:cNvSpPr/>
          <p:nvPr/>
        </p:nvSpPr>
        <p:spPr>
          <a:xfrm>
            <a:off x="1071720" y="3000240"/>
            <a:ext cx="664344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адия   зрелой любв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Zn + 2 HCl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Zn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857160" y="21420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Любовь  как  хим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Схема 6" descr=""/>
          <p:cNvPicPr/>
          <p:nvPr/>
        </p:nvPicPr>
        <p:blipFill>
          <a:blip r:embed="rId2"/>
          <a:stretch/>
        </p:blipFill>
        <p:spPr>
          <a:xfrm>
            <a:off x="347760" y="858960"/>
            <a:ext cx="8588160" cy="2139840"/>
          </a:xfrm>
          <a:prstGeom prst="rect">
            <a:avLst/>
          </a:prstGeom>
          <a:ln w="0">
            <a:noFill/>
          </a:ln>
        </p:spPr>
      </p:pic>
      <p:sp>
        <p:nvSpPr>
          <p:cNvPr id="366" name="Цилиндр 7"/>
          <p:cNvSpPr/>
          <p:nvPr/>
        </p:nvSpPr>
        <p:spPr>
          <a:xfrm>
            <a:off x="1000080" y="5500800"/>
            <a:ext cx="571680" cy="1071360"/>
          </a:xfrm>
          <a:prstGeom prst="can">
            <a:avLst>
              <a:gd name="adj" fmla="val 13333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Цилиндр 8"/>
          <p:cNvSpPr/>
          <p:nvPr/>
        </p:nvSpPr>
        <p:spPr>
          <a:xfrm>
            <a:off x="7572240" y="42861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Цилиндр 10"/>
          <p:cNvSpPr/>
          <p:nvPr/>
        </p:nvSpPr>
        <p:spPr>
          <a:xfrm>
            <a:off x="7572240" y="5572080"/>
            <a:ext cx="571680" cy="1071720"/>
          </a:xfrm>
          <a:prstGeom prst="can">
            <a:avLst>
              <a:gd name="adj" fmla="val 13333"/>
            </a:avLst>
          </a:prstGeom>
          <a:solidFill>
            <a:srgbClr val="d9d9d9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Стрелка углом 11"/>
          <p:cNvSpPr/>
          <p:nvPr/>
        </p:nvSpPr>
        <p:spPr>
          <a:xfrm rot="5400000">
            <a:off x="642600" y="350028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367076" y="62508"/>
                </a:lnTo>
                <a:lnTo>
                  <a:pt x="367076" y="0"/>
                </a:lnTo>
                <a:lnTo>
                  <a:pt x="500062" y="125016"/>
                </a:lnTo>
                <a:lnTo>
                  <a:pt x="367076" y="250031"/>
                </a:lnTo>
                <a:lnTo>
                  <a:pt x="367076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544711"/>
                  <a:pt x="125016" y="808136"/>
                  <a:pt x="125016" y="1071562"/>
                </a:cubicBezTo>
                <a:lnTo>
                  <a:pt x="0" y="1071562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Стрелка вправо 12"/>
          <p:cNvSpPr/>
          <p:nvPr/>
        </p:nvSpPr>
        <p:spPr>
          <a:xfrm>
            <a:off x="3500280" y="5286240"/>
            <a:ext cx="2071800" cy="2858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Цилиндр 15"/>
          <p:cNvSpPr/>
          <p:nvPr/>
        </p:nvSpPr>
        <p:spPr>
          <a:xfrm>
            <a:off x="1000080" y="4286160"/>
            <a:ext cx="571680" cy="1357560"/>
          </a:xfrm>
          <a:prstGeom prst="can">
            <a:avLst>
              <a:gd name="adj" fmla="val 1052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17"/>
          <p:cNvSpPr/>
          <p:nvPr/>
        </p:nvSpPr>
        <p:spPr>
          <a:xfrm>
            <a:off x="214200" y="59292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0" y="32018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Полилиния 22"/>
          <p:cNvSpPr/>
          <p:nvPr/>
        </p:nvSpPr>
        <p:spPr>
          <a:xfrm>
            <a:off x="1060560" y="5711760"/>
            <a:ext cx="501480" cy="844560"/>
          </a:xfrm>
          <a:custGeom>
            <a:avLst/>
            <a:gdLst/>
            <a:ahLst/>
            <a:rect l="l" t="t" r="r" b="b"/>
            <a:pathLst>
              <a:path w="502081" h="844322">
                <a:moveTo>
                  <a:pt x="121664" y="0"/>
                </a:moveTo>
                <a:cubicBezTo>
                  <a:pt x="107596" y="4689"/>
                  <a:pt x="89946" y="3583"/>
                  <a:pt x="79461" y="14068"/>
                </a:cubicBezTo>
                <a:cubicBezTo>
                  <a:pt x="68976" y="24553"/>
                  <a:pt x="72025" y="43008"/>
                  <a:pt x="65393" y="56271"/>
                </a:cubicBezTo>
                <a:cubicBezTo>
                  <a:pt x="57832" y="71393"/>
                  <a:pt x="46636" y="84406"/>
                  <a:pt x="37258" y="98474"/>
                </a:cubicBezTo>
                <a:cubicBezTo>
                  <a:pt x="51326" y="140677"/>
                  <a:pt x="53950" y="188639"/>
                  <a:pt x="79461" y="225083"/>
                </a:cubicBezTo>
                <a:cubicBezTo>
                  <a:pt x="90548" y="240922"/>
                  <a:pt x="117142" y="233839"/>
                  <a:pt x="135732" y="239151"/>
                </a:cubicBezTo>
                <a:cubicBezTo>
                  <a:pt x="276964" y="279504"/>
                  <a:pt x="58346" y="223323"/>
                  <a:pt x="234206" y="267286"/>
                </a:cubicBezTo>
                <a:cubicBezTo>
                  <a:pt x="290477" y="257908"/>
                  <a:pt x="349295" y="258338"/>
                  <a:pt x="403018" y="239151"/>
                </a:cubicBezTo>
                <a:cubicBezTo>
                  <a:pt x="418940" y="233465"/>
                  <a:pt x="429471" y="213771"/>
                  <a:pt x="431153" y="196948"/>
                </a:cubicBezTo>
                <a:cubicBezTo>
                  <a:pt x="434452" y="163955"/>
                  <a:pt x="423589" y="130988"/>
                  <a:pt x="417086" y="98474"/>
                </a:cubicBezTo>
                <a:cubicBezTo>
                  <a:pt x="411051" y="68298"/>
                  <a:pt x="402567" y="44745"/>
                  <a:pt x="374883" y="28135"/>
                </a:cubicBezTo>
                <a:cubicBezTo>
                  <a:pt x="362168" y="20506"/>
                  <a:pt x="346748" y="18757"/>
                  <a:pt x="332680" y="14068"/>
                </a:cubicBezTo>
                <a:cubicBezTo>
                  <a:pt x="267031" y="23446"/>
                  <a:pt x="200068" y="26119"/>
                  <a:pt x="135732" y="42203"/>
                </a:cubicBezTo>
                <a:cubicBezTo>
                  <a:pt x="122865" y="45420"/>
                  <a:pt x="117953" y="62053"/>
                  <a:pt x="107596" y="70339"/>
                </a:cubicBezTo>
                <a:cubicBezTo>
                  <a:pt x="94394" y="80901"/>
                  <a:pt x="79461" y="89096"/>
                  <a:pt x="65393" y="98474"/>
                </a:cubicBezTo>
                <a:cubicBezTo>
                  <a:pt x="56015" y="117231"/>
                  <a:pt x="38255" y="133798"/>
                  <a:pt x="37258" y="154745"/>
                </a:cubicBezTo>
                <a:cubicBezTo>
                  <a:pt x="31866" y="267984"/>
                  <a:pt x="0" y="373746"/>
                  <a:pt x="93529" y="436099"/>
                </a:cubicBezTo>
                <a:cubicBezTo>
                  <a:pt x="105867" y="444324"/>
                  <a:pt x="121664" y="445477"/>
                  <a:pt x="135732" y="450166"/>
                </a:cubicBezTo>
                <a:cubicBezTo>
                  <a:pt x="252963" y="445477"/>
                  <a:pt x="371464" y="453939"/>
                  <a:pt x="487424" y="436099"/>
                </a:cubicBezTo>
                <a:cubicBezTo>
                  <a:pt x="502081" y="433844"/>
                  <a:pt x="501492" y="408724"/>
                  <a:pt x="501492" y="393895"/>
                </a:cubicBezTo>
                <a:cubicBezTo>
                  <a:pt x="501492" y="356089"/>
                  <a:pt x="499379" y="317220"/>
                  <a:pt x="487424" y="281354"/>
                </a:cubicBezTo>
                <a:cubicBezTo>
                  <a:pt x="480010" y="259111"/>
                  <a:pt x="462745" y="240660"/>
                  <a:pt x="445221" y="225083"/>
                </a:cubicBezTo>
                <a:cubicBezTo>
                  <a:pt x="419948" y="202618"/>
                  <a:pt x="388950" y="187569"/>
                  <a:pt x="360815" y="168812"/>
                </a:cubicBezTo>
                <a:cubicBezTo>
                  <a:pt x="297603" y="126670"/>
                  <a:pt x="334307" y="146955"/>
                  <a:pt x="248273" y="112542"/>
                </a:cubicBezTo>
                <a:cubicBezTo>
                  <a:pt x="224827" y="117231"/>
                  <a:pt x="198438" y="114307"/>
                  <a:pt x="177935" y="126609"/>
                </a:cubicBezTo>
                <a:cubicBezTo>
                  <a:pt x="149502" y="143669"/>
                  <a:pt x="107596" y="196948"/>
                  <a:pt x="107596" y="196948"/>
                </a:cubicBezTo>
                <a:cubicBezTo>
                  <a:pt x="102907" y="215705"/>
                  <a:pt x="102176" y="235926"/>
                  <a:pt x="93529" y="253219"/>
                </a:cubicBezTo>
                <a:cubicBezTo>
                  <a:pt x="87598" y="265082"/>
                  <a:pt x="70050" y="268935"/>
                  <a:pt x="65393" y="281354"/>
                </a:cubicBezTo>
                <a:cubicBezTo>
                  <a:pt x="55378" y="308061"/>
                  <a:pt x="56015" y="337625"/>
                  <a:pt x="51326" y="365760"/>
                </a:cubicBezTo>
                <a:cubicBezTo>
                  <a:pt x="56015" y="426720"/>
                  <a:pt x="58993" y="487836"/>
                  <a:pt x="65393" y="548640"/>
                </a:cubicBezTo>
                <a:cubicBezTo>
                  <a:pt x="68379" y="577007"/>
                  <a:pt x="60898" y="611389"/>
                  <a:pt x="79461" y="633046"/>
                </a:cubicBezTo>
                <a:cubicBezTo>
                  <a:pt x="95022" y="651200"/>
                  <a:pt x="126354" y="642425"/>
                  <a:pt x="149800" y="647114"/>
                </a:cubicBezTo>
                <a:cubicBezTo>
                  <a:pt x="248274" y="642425"/>
                  <a:pt x="362563" y="686774"/>
                  <a:pt x="445221" y="633046"/>
                </a:cubicBezTo>
                <a:cubicBezTo>
                  <a:pt x="492564" y="602273"/>
                  <a:pt x="442227" y="519603"/>
                  <a:pt x="431153" y="464234"/>
                </a:cubicBezTo>
                <a:cubicBezTo>
                  <a:pt x="427837" y="447655"/>
                  <a:pt x="413580" y="435233"/>
                  <a:pt x="403018" y="422031"/>
                </a:cubicBezTo>
                <a:cubicBezTo>
                  <a:pt x="384993" y="399499"/>
                  <a:pt x="338314" y="362638"/>
                  <a:pt x="318612" y="351692"/>
                </a:cubicBezTo>
                <a:cubicBezTo>
                  <a:pt x="296537" y="339428"/>
                  <a:pt x="271719" y="332935"/>
                  <a:pt x="248273" y="323557"/>
                </a:cubicBezTo>
                <a:cubicBezTo>
                  <a:pt x="229516" y="328246"/>
                  <a:pt x="208790" y="328033"/>
                  <a:pt x="192003" y="337625"/>
                </a:cubicBezTo>
                <a:cubicBezTo>
                  <a:pt x="174730" y="347496"/>
                  <a:pt x="165084" y="367092"/>
                  <a:pt x="149800" y="379828"/>
                </a:cubicBezTo>
                <a:cubicBezTo>
                  <a:pt x="136811" y="390652"/>
                  <a:pt x="121664" y="398585"/>
                  <a:pt x="107596" y="407963"/>
                </a:cubicBezTo>
                <a:cubicBezTo>
                  <a:pt x="74115" y="508409"/>
                  <a:pt x="95912" y="467693"/>
                  <a:pt x="51326" y="534572"/>
                </a:cubicBezTo>
                <a:cubicBezTo>
                  <a:pt x="56015" y="614289"/>
                  <a:pt x="37787" y="698792"/>
                  <a:pt x="65393" y="773723"/>
                </a:cubicBezTo>
                <a:cubicBezTo>
                  <a:pt x="75646" y="801552"/>
                  <a:pt x="120290" y="798908"/>
                  <a:pt x="149800" y="801859"/>
                </a:cubicBezTo>
                <a:lnTo>
                  <a:pt x="290476" y="815926"/>
                </a:lnTo>
                <a:cubicBezTo>
                  <a:pt x="431068" y="800306"/>
                  <a:pt x="417086" y="844322"/>
                  <a:pt x="417086" y="759655"/>
                </a:cubicBez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Выноска-облако 23" descr=""/>
          <p:cNvPicPr/>
          <p:nvPr/>
        </p:nvPicPr>
        <p:blipFill>
          <a:blip r:embed="rId3"/>
          <a:stretch/>
        </p:blipFill>
        <p:spPr>
          <a:xfrm>
            <a:off x="7418520" y="3206880"/>
            <a:ext cx="1457280" cy="122544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25"/>
          <p:cNvSpPr/>
          <p:nvPr/>
        </p:nvSpPr>
        <p:spPr>
          <a:xfrm>
            <a:off x="6066000" y="6072120"/>
            <a:ext cx="15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+ Q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7" descr="Палитра художника 2.jpeg"/>
          <p:cNvPicPr/>
          <p:nvPr/>
        </p:nvPicPr>
        <p:blipFill>
          <a:blip r:embed="rId2"/>
          <a:stretch/>
        </p:blipFill>
        <p:spPr>
          <a:xfrm>
            <a:off x="2889360" y="2139840"/>
            <a:ext cx="3444840" cy="2438640"/>
          </a:xfrm>
          <a:prstGeom prst="rect">
            <a:avLst/>
          </a:prstGeom>
          <a:ln w="0">
            <a:noFill/>
          </a:ln>
        </p:spPr>
      </p:pic>
      <p:grpSp>
        <p:nvGrpSpPr>
          <p:cNvPr id="378" name="Овал 1"/>
          <p:cNvGrpSpPr/>
          <p:nvPr/>
        </p:nvGrpSpPr>
        <p:grpSpPr>
          <a:xfrm>
            <a:off x="4108320" y="822240"/>
            <a:ext cx="1067040" cy="1000080"/>
            <a:chOff x="4108320" y="822240"/>
            <a:chExt cx="1067040" cy="1000080"/>
          </a:xfrm>
        </p:grpSpPr>
        <p:pic>
          <p:nvPicPr>
            <p:cNvPr id="379" name="Овал 1" descr=""/>
            <p:cNvPicPr/>
            <p:nvPr/>
          </p:nvPicPr>
          <p:blipFill>
            <a:blip r:embed="rId3"/>
            <a:stretch/>
          </p:blipFill>
          <p:spPr>
            <a:xfrm>
              <a:off x="4108320" y="82224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289400" y="993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Овал 2"/>
          <p:cNvGrpSpPr/>
          <p:nvPr/>
        </p:nvGrpSpPr>
        <p:grpSpPr>
          <a:xfrm>
            <a:off x="4108320" y="5035680"/>
            <a:ext cx="1067040" cy="1000080"/>
            <a:chOff x="4108320" y="5035680"/>
            <a:chExt cx="1067040" cy="1000080"/>
          </a:xfrm>
        </p:grpSpPr>
        <p:pic>
          <p:nvPicPr>
            <p:cNvPr id="382" name="Овал 2" descr=""/>
            <p:cNvPicPr/>
            <p:nvPr/>
          </p:nvPicPr>
          <p:blipFill>
            <a:blip r:embed="rId4"/>
            <a:stretch/>
          </p:blipFill>
          <p:spPr>
            <a:xfrm>
              <a:off x="4108320" y="5035680"/>
              <a:ext cx="1067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289400" y="5208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Овал 3"/>
          <p:cNvGrpSpPr/>
          <p:nvPr/>
        </p:nvGrpSpPr>
        <p:grpSpPr>
          <a:xfrm>
            <a:off x="1962000" y="1962000"/>
            <a:ext cx="1073160" cy="1000440"/>
            <a:chOff x="1962000" y="1962000"/>
            <a:chExt cx="1073160" cy="1000440"/>
          </a:xfrm>
        </p:grpSpPr>
        <p:pic>
          <p:nvPicPr>
            <p:cNvPr id="385" name="Овал 3" descr=""/>
            <p:cNvPicPr/>
            <p:nvPr/>
          </p:nvPicPr>
          <p:blipFill>
            <a:blip r:embed="rId5"/>
            <a:stretch/>
          </p:blipFill>
          <p:spPr>
            <a:xfrm>
              <a:off x="1962000" y="196200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146320" y="213660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Овал 4"/>
          <p:cNvGrpSpPr/>
          <p:nvPr/>
        </p:nvGrpSpPr>
        <p:grpSpPr>
          <a:xfrm>
            <a:off x="6254640" y="1895400"/>
            <a:ext cx="1067040" cy="993960"/>
            <a:chOff x="6254640" y="1895400"/>
            <a:chExt cx="1067040" cy="993960"/>
          </a:xfrm>
        </p:grpSpPr>
        <p:pic>
          <p:nvPicPr>
            <p:cNvPr id="388" name="Овал 4" descr=""/>
            <p:cNvPicPr/>
            <p:nvPr/>
          </p:nvPicPr>
          <p:blipFill>
            <a:blip r:embed="rId6"/>
            <a:stretch/>
          </p:blipFill>
          <p:spPr>
            <a:xfrm>
              <a:off x="6254640" y="1895400"/>
              <a:ext cx="10670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432480" y="206532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0" name="Овал 5"/>
          <p:cNvGrpSpPr/>
          <p:nvPr/>
        </p:nvGrpSpPr>
        <p:grpSpPr>
          <a:xfrm>
            <a:off x="1962000" y="3895560"/>
            <a:ext cx="1073160" cy="1000440"/>
            <a:chOff x="1962000" y="3895560"/>
            <a:chExt cx="1073160" cy="1000440"/>
          </a:xfrm>
        </p:grpSpPr>
        <p:pic>
          <p:nvPicPr>
            <p:cNvPr id="391" name="Овал 5" descr=""/>
            <p:cNvPicPr/>
            <p:nvPr/>
          </p:nvPicPr>
          <p:blipFill>
            <a:blip r:embed="rId7"/>
            <a:stretch/>
          </p:blipFill>
          <p:spPr>
            <a:xfrm>
              <a:off x="1962000" y="3895560"/>
              <a:ext cx="10731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14632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Овал 6"/>
          <p:cNvGrpSpPr/>
          <p:nvPr/>
        </p:nvGrpSpPr>
        <p:grpSpPr>
          <a:xfrm>
            <a:off x="6254640" y="3895560"/>
            <a:ext cx="1067040" cy="1000440"/>
            <a:chOff x="6254640" y="3895560"/>
            <a:chExt cx="1067040" cy="1000440"/>
          </a:xfrm>
        </p:grpSpPr>
        <p:pic>
          <p:nvPicPr>
            <p:cNvPr id="394" name="Овал 6" descr=""/>
            <p:cNvPicPr/>
            <p:nvPr/>
          </p:nvPicPr>
          <p:blipFill>
            <a:blip r:embed="rId8"/>
            <a:stretch/>
          </p:blipFill>
          <p:spPr>
            <a:xfrm>
              <a:off x="6254640" y="3895560"/>
              <a:ext cx="106704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432480" y="406548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!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96" name="Прямая со стрелкой 20"/>
          <p:cNvCxnSpPr/>
          <p:nvPr/>
        </p:nvCxnSpPr>
        <p:spPr>
          <a:xfrm flipV="1">
            <a:off x="2498760" y="2928600"/>
            <a:ext cx="2160" cy="100224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7" name="Прямая со стрелкой 22"/>
          <p:cNvCxnSpPr/>
          <p:nvPr/>
        </p:nvCxnSpPr>
        <p:spPr>
          <a:xfrm flipH="1">
            <a:off x="2854080" y="132084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8" name="Прямая со стрелкой 24"/>
          <p:cNvCxnSpPr/>
          <p:nvPr/>
        </p:nvCxnSpPr>
        <p:spPr>
          <a:xfrm>
            <a:off x="5143680" y="1320840"/>
            <a:ext cx="1289520" cy="74520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99" name="Прямая со стрелкой 26"/>
          <p:cNvCxnSpPr/>
          <p:nvPr/>
        </p:nvCxnSpPr>
        <p:spPr>
          <a:xfrm flipV="1">
            <a:off x="6786720" y="2857680"/>
            <a:ext cx="2160" cy="107316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0" name="Прямая со стрелкой 28"/>
          <p:cNvCxnSpPr/>
          <p:nvPr/>
        </p:nvCxnSpPr>
        <p:spPr>
          <a:xfrm flipH="1">
            <a:off x="514332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1" name="Прямая со стрелкой 30"/>
          <p:cNvCxnSpPr/>
          <p:nvPr/>
        </p:nvCxnSpPr>
        <p:spPr>
          <a:xfrm>
            <a:off x="2854440" y="4721400"/>
            <a:ext cx="1289520" cy="816480"/>
          </a:xfrm>
          <a:prstGeom prst="straightConnector1">
            <a:avLst/>
          </a:prstGeom>
          <a:ln cap="rnd"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02" name="TextBox 25"/>
          <p:cNvSpPr/>
          <p:nvPr/>
        </p:nvSpPr>
        <p:spPr>
          <a:xfrm>
            <a:off x="2143080" y="71280"/>
            <a:ext cx="4857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р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йная, восторжен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Box 27"/>
          <p:cNvSpPr/>
          <p:nvPr/>
        </p:nvSpPr>
        <p:spPr>
          <a:xfrm>
            <a:off x="1500120" y="596592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г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судочная, реалистичная, практичн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Box 29"/>
          <p:cNvSpPr/>
          <p:nvPr/>
        </p:nvSpPr>
        <p:spPr>
          <a:xfrm>
            <a:off x="71280" y="1228680"/>
            <a:ext cx="2214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вязчивая, болезненная стра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31"/>
          <p:cNvSpPr/>
          <p:nvPr/>
        </p:nvSpPr>
        <p:spPr>
          <a:xfrm>
            <a:off x="0" y="4643280"/>
            <a:ext cx="242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юду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иг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32"/>
          <p:cNvSpPr/>
          <p:nvPr/>
        </p:nvSpPr>
        <p:spPr>
          <a:xfrm>
            <a:off x="6215040" y="4714920"/>
            <a:ext cx="300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орг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бовь–не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Box 33"/>
          <p:cNvSpPr/>
          <p:nvPr/>
        </p:nvSpPr>
        <p:spPr>
          <a:xfrm>
            <a:off x="6929280" y="10717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гап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ертвенная, бескорыстна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92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0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Прямоугольник 2" descr=""/>
          <p:cNvPicPr/>
          <p:nvPr/>
        </p:nvPicPr>
        <p:blipFill>
          <a:blip r:embed="rId1"/>
          <a:stretch/>
        </p:blipFill>
        <p:spPr>
          <a:xfrm>
            <a:off x="858960" y="1859040"/>
            <a:ext cx="7426080" cy="19080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857160" y="28584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Эро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ихийная, восторженная любов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Цилиндр 7"/>
          <p:cNvSpPr/>
          <p:nvPr/>
        </p:nvSpPr>
        <p:spPr>
          <a:xfrm>
            <a:off x="7429680" y="5143680"/>
            <a:ext cx="571320" cy="1428480"/>
          </a:xfrm>
          <a:prstGeom prst="can">
            <a:avLst>
              <a:gd name="adj" fmla="val 10000"/>
            </a:avLst>
          </a:prstGeom>
          <a:solidFill>
            <a:srgbClr val="ff0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Цилиндр 20"/>
          <p:cNvSpPr/>
          <p:nvPr/>
        </p:nvSpPr>
        <p:spPr>
          <a:xfrm>
            <a:off x="7429680" y="3857760"/>
            <a:ext cx="57132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Цилиндр 27"/>
          <p:cNvSpPr/>
          <p:nvPr/>
        </p:nvSpPr>
        <p:spPr>
          <a:xfrm>
            <a:off x="135720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Цилиндр 29"/>
          <p:cNvSpPr/>
          <p:nvPr/>
        </p:nvSpPr>
        <p:spPr>
          <a:xfrm>
            <a:off x="135720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c0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Box 30"/>
          <p:cNvSpPr/>
          <p:nvPr/>
        </p:nvSpPr>
        <p:spPr>
          <a:xfrm>
            <a:off x="2143080" y="5715000"/>
            <a:ext cx="150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Fe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Box 34"/>
          <p:cNvSpPr/>
          <p:nvPr/>
        </p:nvSpPr>
        <p:spPr>
          <a:xfrm>
            <a:off x="0" y="30718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KSC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Стрелка углом 36"/>
          <p:cNvSpPr/>
          <p:nvPr/>
        </p:nvSpPr>
        <p:spPr>
          <a:xfrm rot="5400000">
            <a:off x="1071360" y="3571920"/>
            <a:ext cx="571320" cy="857160"/>
          </a:xfrm>
          <a:custGeom>
            <a:avLst/>
            <a:gdLst/>
            <a:ahLst/>
            <a:rect l="l" t="t" r="r" b="b"/>
            <a:pathLst>
              <a:path w="571500" h="857250">
                <a:moveTo>
                  <a:pt x="0" y="85725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Стрелка вправо 37"/>
          <p:cNvSpPr/>
          <p:nvPr/>
        </p:nvSpPr>
        <p:spPr>
          <a:xfrm>
            <a:off x="3714840" y="5000760"/>
            <a:ext cx="2071440" cy="28548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TextBox 39" descr=""/>
          <p:cNvPicPr/>
          <p:nvPr/>
        </p:nvPicPr>
        <p:blipFill>
          <a:blip r:embed="rId2"/>
          <a:stretch/>
        </p:blipFill>
        <p:spPr>
          <a:xfrm>
            <a:off x="4846680" y="5419800"/>
            <a:ext cx="2511360" cy="85860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40" descr=""/>
          <p:cNvPicPr/>
          <p:nvPr/>
        </p:nvPicPr>
        <p:blipFill>
          <a:blip r:embed="rId3"/>
          <a:stretch/>
        </p:blipFill>
        <p:spPr>
          <a:xfrm>
            <a:off x="6119640" y="5950080"/>
            <a:ext cx="1451160" cy="64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3"/>
          <p:cNvSpPr/>
          <p:nvPr/>
        </p:nvSpPr>
        <p:spPr>
          <a:xfrm>
            <a:off x="857160" y="214200"/>
            <a:ext cx="7286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Verdana"/>
              </a:rPr>
              <a:t>Сторгэ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юбовь  как  неж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a7d6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Box 12"/>
          <p:cNvSpPr/>
          <p:nvPr/>
        </p:nvSpPr>
        <p:spPr>
          <a:xfrm>
            <a:off x="214200" y="1643040"/>
            <a:ext cx="892980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2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H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2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Box 30"/>
          <p:cNvSpPr/>
          <p:nvPr/>
        </p:nvSpPr>
        <p:spPr>
          <a:xfrm>
            <a:off x="1928880" y="5857920"/>
            <a:ext cx="192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Cu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TextBox 31" descr=""/>
          <p:cNvPicPr/>
          <p:nvPr/>
        </p:nvPicPr>
        <p:blipFill>
          <a:blip r:embed="rId1"/>
          <a:stretch/>
        </p:blipFill>
        <p:spPr>
          <a:xfrm>
            <a:off x="4700520" y="5705640"/>
            <a:ext cx="2370240" cy="8604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трелка вниз 35"/>
          <p:cNvSpPr/>
          <p:nvPr/>
        </p:nvSpPr>
        <p:spPr>
          <a:xfrm>
            <a:off x="7000920" y="578628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7eea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Box 36"/>
          <p:cNvSpPr/>
          <p:nvPr/>
        </p:nvSpPr>
        <p:spPr>
          <a:xfrm>
            <a:off x="21420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O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858960" y="85680"/>
            <a:ext cx="7284960" cy="1523880"/>
          </a:xfrm>
          <a:prstGeom prst="rect">
            <a:avLst/>
          </a:prstGeom>
          <a:ln w="0">
            <a:noFill/>
          </a:ln>
        </p:spPr>
      </p:pic>
      <p:sp>
        <p:nvSpPr>
          <p:cNvPr id="434" name="Цилиндр 26"/>
          <p:cNvSpPr/>
          <p:nvPr/>
        </p:nvSpPr>
        <p:spPr>
          <a:xfrm>
            <a:off x="7358040" y="385776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Цилиндр 27"/>
          <p:cNvSpPr/>
          <p:nvPr/>
        </p:nvSpPr>
        <p:spPr>
          <a:xfrm>
            <a:off x="1214280" y="392904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Цилиндр 28"/>
          <p:cNvSpPr/>
          <p:nvPr/>
        </p:nvSpPr>
        <p:spPr>
          <a:xfrm>
            <a:off x="7358040" y="5143680"/>
            <a:ext cx="571680" cy="1428480"/>
          </a:xfrm>
          <a:prstGeom prst="can">
            <a:avLst>
              <a:gd name="adj" fmla="val 1000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Цилиндр 29"/>
          <p:cNvSpPr/>
          <p:nvPr/>
        </p:nvSpPr>
        <p:spPr>
          <a:xfrm>
            <a:off x="1214280" y="5214960"/>
            <a:ext cx="571680" cy="1428840"/>
          </a:xfrm>
          <a:prstGeom prst="can">
            <a:avLst>
              <a:gd name="adj" fmla="val 10000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0" y="1643040"/>
            <a:ext cx="91440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3Na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3 A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+ 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3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A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2"/>
          <p:cNvSpPr/>
          <p:nvPr/>
        </p:nvSpPr>
        <p:spPr>
          <a:xfrm>
            <a:off x="3500280" y="5072040"/>
            <a:ext cx="2509920" cy="27612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000000"/>
          </a:solidFill>
          <a:ln cap="rnd"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трелка углом 24"/>
          <p:cNvSpPr/>
          <p:nvPr/>
        </p:nvSpPr>
        <p:spPr>
          <a:xfrm rot="5400000">
            <a:off x="785160" y="3357360"/>
            <a:ext cx="571680" cy="1143000"/>
          </a:xfrm>
          <a:custGeom>
            <a:avLst/>
            <a:gdLst/>
            <a:ahLst/>
            <a:rect l="l" t="t" r="r" b="b"/>
            <a:pathLst>
              <a:path w="571500" h="1143000">
                <a:moveTo>
                  <a:pt x="0" y="1143000"/>
                </a:moveTo>
                <a:lnTo>
                  <a:pt x="0" y="321469"/>
                </a:lnTo>
                <a:cubicBezTo>
                  <a:pt x="0" y="183381"/>
                  <a:pt x="111943" y="71438"/>
                  <a:pt x="250031" y="71438"/>
                </a:cubicBezTo>
                <a:lnTo>
                  <a:pt x="419515" y="71438"/>
                </a:lnTo>
                <a:lnTo>
                  <a:pt x="419515" y="0"/>
                </a:lnTo>
                <a:lnTo>
                  <a:pt x="571500" y="142875"/>
                </a:lnTo>
                <a:lnTo>
                  <a:pt x="419515" y="285750"/>
                </a:lnTo>
                <a:lnTo>
                  <a:pt x="419515" y="214313"/>
                </a:lnTo>
                <a:lnTo>
                  <a:pt x="250031" y="214313"/>
                </a:lnTo>
                <a:cubicBezTo>
                  <a:pt x="190850" y="214313"/>
                  <a:pt x="142875" y="262288"/>
                  <a:pt x="142875" y="321469"/>
                </a:cubicBezTo>
                <a:lnTo>
                  <a:pt x="142875" y="1143000"/>
                </a:lnTo>
                <a:lnTo>
                  <a:pt x="0" y="1143000"/>
                </a:lnTo>
                <a:close/>
              </a:path>
            </a:pathLst>
          </a:custGeom>
          <a:solidFill>
            <a:srgbClr val="262626"/>
          </a:solidFill>
          <a:ln cap="rnd" w="1908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TextBox 30"/>
          <p:cNvSpPr/>
          <p:nvPr/>
        </p:nvSpPr>
        <p:spPr>
          <a:xfrm>
            <a:off x="1928880" y="5929200"/>
            <a:ext cx="200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P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TextBox 31" descr=""/>
          <p:cNvPicPr/>
          <p:nvPr/>
        </p:nvPicPr>
        <p:blipFill>
          <a:blip r:embed="rId2"/>
          <a:stretch/>
        </p:blipFill>
        <p:spPr>
          <a:xfrm>
            <a:off x="4986360" y="5778360"/>
            <a:ext cx="2043000" cy="8604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3"/>
          <p:cNvSpPr/>
          <p:nvPr/>
        </p:nvSpPr>
        <p:spPr>
          <a:xfrm>
            <a:off x="4714920" y="4143240"/>
            <a:ext cx="1500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Стрелка вниз 35"/>
          <p:cNvSpPr/>
          <p:nvPr/>
        </p:nvSpPr>
        <p:spPr>
          <a:xfrm>
            <a:off x="7000920" y="5857920"/>
            <a:ext cx="2142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TextBox 36"/>
          <p:cNvSpPr/>
          <p:nvPr/>
        </p:nvSpPr>
        <p:spPr>
          <a:xfrm>
            <a:off x="0" y="2928960"/>
            <a:ext cx="171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Ag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0:26:54Z</dcterms:created>
  <dc:creator>User</dc:creator>
  <dc:description/>
  <dc:language>en-US</dc:language>
  <cp:lastModifiedBy>Школа</cp:lastModifiedBy>
  <dcterms:modified xsi:type="dcterms:W3CDTF">2018-04-30T10:06:59Z</dcterms:modified>
  <cp:revision>65</cp:revision>
  <dc:subject/>
  <dc:title>Презентация PowerPoint</dc:title>
</cp:coreProperties>
</file>