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26.jpeg" ContentType="image/jpeg"/>
  <Override PartName="/ppt/media/image3.png" ContentType="image/png"/>
  <Override PartName="/ppt/media/image5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50.jpeg" ContentType="image/jpeg"/>
  <Override PartName="/ppt/media/image40.jpeg" ContentType="image/jpeg"/>
  <Override PartName="/ppt/media/image13.jpeg" ContentType="image/jpeg"/>
  <Override PartName="/ppt/media/image17.jpeg" ContentType="image/jpeg"/>
  <Override PartName="/ppt/media/chimes.wav" ContentType="audio/x-wav"/>
  <Override PartName="/ppt/media/image16.jpeg" ContentType="image/jpeg"/>
  <Override PartName="/ppt/media/image60.jpeg" ContentType="image/jpeg"/>
  <Override PartName="/ppt/media/image37.jpeg" ContentType="image/jpeg"/>
  <Override PartName="/ppt/media/image25.jpeg" ContentType="image/jpeg"/>
  <Override PartName="/ppt/media/image41.jpeg" ContentType="image/jpe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42.jpeg" ContentType="image/jpeg"/>
  <Override PartName="/ppt/media/image5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8.jpeg" ContentType="image/jpeg"/>
  <Override PartName="/ppt/media/image39.jpeg" ContentType="image/jpeg"/>
  <Override PartName="/ppt/media/image27.jpeg" ContentType="image/jpeg"/>
  <Override PartName="/ppt/media/image10.jpeg" ContentType="image/jpeg"/>
  <Override PartName="/ppt/media/image5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64B90-7193-43AE-AB49-CCC78DD8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D3CE-9960-4A59-AFDF-B98F9E89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3F437-185D-403E-A5D6-0A9FD9E6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0E970-1EDD-4789-BDDE-04556C44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1BE5-C1C9-4FF2-A83A-0FA48F42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5FBE6-C88F-488E-AD20-007DD9B8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FB61A-1F8F-498D-AC01-BDCF8FED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AE96E-A4F3-459B-AE1A-FB0DEC5B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BB64E-EA58-444F-82C0-D1E327B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8EDED-37FC-4262-A650-92B9ABCB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05ED06-A3C4-410C-9B06-8901A4A1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1C6C-B94E-4A6D-8900-31D7878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8FF53-BEC9-4447-B1C0-2EDFA85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532DF-8BC6-4C43-A0E3-0FE2FFA4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46AC2-BFF0-498C-AB41-B5CC8A81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8A84C-AA05-460C-9EB0-7B1983B9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3FBF0-81D4-4CCE-84DE-5BE5B1E2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3BD9-5BCE-4F0C-A89C-68624FE6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4C173-540E-46B0-86EE-D0DB2A9B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9CA17-1388-453E-9BD7-8BE07687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E09F-7B0A-41A1-ACF8-D55B1039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A7525-8576-47B2-B2FA-09EC627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5F0C-D560-49FB-AC9B-39778EF4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FFA8-7431-429B-8727-27A2DE9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Line 4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B260-22DA-4158-80A1-A7AC2AA204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7" name="Group 4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Line 5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9" name="Line 6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0" name="Rectangle 7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33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808C-89D1-4279-84D6-7C630E8827E7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aplus.info/produce/scomber.html" TargetMode="External"/><Relationship Id="rId2" Type="http://schemas.openxmlformats.org/officeDocument/2006/relationships/image" Target="../media/image48.jpeg"/><Relationship Id="rId3" Type="http://schemas.openxmlformats.org/officeDocument/2006/relationships/hyperlink" Target="http://edaplus.info/produce/tunny.html" TargetMode="External"/><Relationship Id="rId4" Type="http://schemas.openxmlformats.org/officeDocument/2006/relationships/image" Target="../media/image49.jpeg"/><Relationship Id="rId5" Type="http://schemas.openxmlformats.org/officeDocument/2006/relationships/hyperlink" Target="http://edaplus.info/produce/hake.html" TargetMode="External"/><Relationship Id="rId6" Type="http://schemas.openxmlformats.org/officeDocument/2006/relationships/image" Target="../media/image50.jpeg"/><Relationship Id="rId7" Type="http://schemas.openxmlformats.org/officeDocument/2006/relationships/hyperlink" Target="http://edaplus.info/produce/alaska_pollack.html" TargetMode="External"/><Relationship Id="rId8" Type="http://schemas.openxmlformats.org/officeDocument/2006/relationships/image" Target="../media/image51.jpeg"/><Relationship Id="rId9" Type="http://schemas.openxmlformats.org/officeDocument/2006/relationships/hyperlink" Target="http://edaplus.info/produce/codfish.html" TargetMode="External"/><Relationship Id="rId10" Type="http://schemas.openxmlformats.org/officeDocument/2006/relationships/image" Target="../media/image52.jpeg"/><Relationship Id="rId11" Type="http://schemas.openxmlformats.org/officeDocument/2006/relationships/hyperlink" Target="http://edaplus.info/produce/haddock.html" TargetMode="External"/><Relationship Id="rId12" Type="http://schemas.openxmlformats.org/officeDocument/2006/relationships/image" Target="../media/image53.jpeg"/><Relationship Id="rId13" Type="http://schemas.openxmlformats.org/officeDocument/2006/relationships/hyperlink" Target="http://edaplus.info/produce/capelin.html" TargetMode="External"/><Relationship Id="rId14" Type="http://schemas.openxmlformats.org/officeDocument/2006/relationships/image" Target="../media/image54.jpeg"/><Relationship Id="rId15" Type="http://schemas.openxmlformats.org/officeDocument/2006/relationships/hyperlink" Target="http://edaplus.info/produce/humpback_salmon.html" TargetMode="External"/><Relationship Id="rId16" Type="http://schemas.openxmlformats.org/officeDocument/2006/relationships/image" Target="../media/image29.jpeg"/><Relationship Id="rId17" Type="http://schemas.openxmlformats.org/officeDocument/2006/relationships/hyperlink" Target="http://edaplus.info/produce/ruff.html" TargetMode="External"/><Relationship Id="rId18" Type="http://schemas.openxmlformats.org/officeDocument/2006/relationships/image" Target="../media/image55.jpeg"/><Relationship Id="rId19" Type="http://schemas.openxmlformats.org/officeDocument/2006/relationships/image" Target="../media/image30.jpeg"/><Relationship Id="rId20" Type="http://schemas.openxmlformats.org/officeDocument/2006/relationships/image" Target="../media/image56.jpeg"/><Relationship Id="rId21" Type="http://schemas.openxmlformats.org/officeDocument/2006/relationships/image" Target="../media/image57.jpeg"/><Relationship Id="rId22" Type="http://schemas.openxmlformats.org/officeDocument/2006/relationships/image" Target="../media/image58.jpeg"/><Relationship Id="rId23" Type="http://schemas.openxmlformats.org/officeDocument/2006/relationships/image" Target="../media/image59.jpeg"/><Relationship Id="rId24" Type="http://schemas.openxmlformats.org/officeDocument/2006/relationships/image" Target="../media/image60.jpeg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daplus.info/produce/dried_apricots.html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edaplus.info/produce/french_plum.html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daplus.info/produce/raisins.html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pine_nut.html" TargetMode="External"/><Relationship Id="rId16" Type="http://schemas.openxmlformats.org/officeDocument/2006/relationships/image" Target="../media/image12.jpeg"/><Relationship Id="rId17" Type="http://schemas.openxmlformats.org/officeDocument/2006/relationships/hyperlink" Target="http://edaplus.info/produce/potato.html" TargetMode="External"/><Relationship Id="rId18" Type="http://schemas.openxmlformats.org/officeDocument/2006/relationships/image" Target="../media/image13.jpeg"/><Relationship Id="rId19" Type="http://schemas.openxmlformats.org/officeDocument/2006/relationships/hyperlink" Target="http://edaplus.info/produce/peanut.html" TargetMode="External"/><Relationship Id="rId20" Type="http://schemas.openxmlformats.org/officeDocument/2006/relationships/image" Target="../media/image14.jpeg"/><Relationship Id="rId21" Type="http://schemas.openxmlformats.org/officeDocument/2006/relationships/hyperlink" Target="http://edaplus.info/produce/laminaria.html" TargetMode="External"/><Relationship Id="rId22" Type="http://schemas.openxmlformats.org/officeDocument/2006/relationships/image" Target="../media/image15.jpeg"/><Relationship Id="rId23" Type="http://schemas.openxmlformats.org/officeDocument/2006/relationships/hyperlink" Target="http://edaplus.info/produce/mustard.html" TargetMode="External"/><Relationship Id="rId24" Type="http://schemas.openxmlformats.org/officeDocument/2006/relationships/image" Target="../media/image16.jpeg"/><Relationship Id="rId25" Type="http://schemas.openxmlformats.org/officeDocument/2006/relationships/hyperlink" Target="http://edaplus.info/produce/lentil.html" TargetMode="External"/><Relationship Id="rId26" Type="http://schemas.openxmlformats.org/officeDocument/2006/relationships/image" Target="../media/image17.jpeg"/><Relationship Id="rId27" Type="http://schemas.openxmlformats.org/officeDocument/2006/relationships/hyperlink" Target="http://edaplus.info/produce/cashew.html" TargetMode="External"/><Relationship Id="rId28" Type="http://schemas.openxmlformats.org/officeDocument/2006/relationships/image" Target="../media/image18.jpeg"/><Relationship Id="rId29" Type="http://schemas.openxmlformats.org/officeDocument/2006/relationships/hyperlink" Target="http://edaplus.info/produce/walnut.html" TargetMode="External"/><Relationship Id="rId30" Type="http://schemas.openxmlformats.org/officeDocument/2006/relationships/image" Target="../media/image19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aplus.info/produce/turkey.html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edaplus.info/produce/beef.html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edaplus.info/produce/pork.html" TargetMode="External"/><Relationship Id="rId6" Type="http://schemas.openxmlformats.org/officeDocument/2006/relationships/image" Target="../media/image22.jpeg"/><Relationship Id="rId7" Type="http://schemas.openxmlformats.org/officeDocument/2006/relationships/hyperlink" Target="http://edaplus.info/produce/mutton.html" TargetMode="External"/><Relationship Id="rId8" Type="http://schemas.openxmlformats.org/officeDocument/2006/relationships/image" Target="../media/image23.jpeg"/><Relationship Id="rId9" Type="http://schemas.openxmlformats.org/officeDocument/2006/relationships/hyperlink" Target="http://edaplus.info/produce/liver.html" TargetMode="External"/><Relationship Id="rId10" Type="http://schemas.openxmlformats.org/officeDocument/2006/relationships/image" Target="../media/image24.jpeg"/><Relationship Id="rId11" Type="http://schemas.openxmlformats.org/officeDocument/2006/relationships/hyperlink" Target="http://edaplus.info/produce/rabbit.html" TargetMode="External"/><Relationship Id="rId12" Type="http://schemas.openxmlformats.org/officeDocument/2006/relationships/image" Target="../media/image25.jpeg"/><Relationship Id="rId13" Type="http://schemas.openxmlformats.org/officeDocument/2006/relationships/hyperlink" Target="http://edaplus.info/produce/pike.html" TargetMode="External"/><Relationship Id="rId14" Type="http://schemas.openxmlformats.org/officeDocument/2006/relationships/image" Target="../media/image26.jpeg"/><Relationship Id="rId15" Type="http://schemas.openxmlformats.org/officeDocument/2006/relationships/hyperlink" Target="http://edaplus.info/produce/grouper.html" TargetMode="External"/><Relationship Id="rId16" Type="http://schemas.openxmlformats.org/officeDocument/2006/relationships/image" Target="../media/image27.jpeg"/><Relationship Id="rId17" Type="http://schemas.openxmlformats.org/officeDocument/2006/relationships/hyperlink" Target="http://edaplus.info/produce/sardine.html" TargetMode="External"/><Relationship Id="rId18" Type="http://schemas.openxmlformats.org/officeDocument/2006/relationships/image" Target="../media/image28.jpeg"/><Relationship Id="rId19" Type="http://schemas.openxmlformats.org/officeDocument/2006/relationships/hyperlink" Target="http://edaplus.info/produce/humpback_salmon.html" TargetMode="External"/><Relationship Id="rId20" Type="http://schemas.openxmlformats.org/officeDocument/2006/relationships/image" Target="../media/image29.jpeg"/><Relationship Id="rId21" Type="http://schemas.openxmlformats.org/officeDocument/2006/relationships/hyperlink" Target="http://edaplus.info/produce/pea.html" TargetMode="External"/><Relationship Id="rId22" Type="http://schemas.openxmlformats.org/officeDocument/2006/relationships/image" Target="../media/image9.jpeg"/><Relationship Id="rId23" Type="http://schemas.openxmlformats.org/officeDocument/2006/relationships/hyperlink" Target="http://edaplus.info/produce/flounder.html" TargetMode="External"/><Relationship Id="rId24" Type="http://schemas.openxmlformats.org/officeDocument/2006/relationships/image" Target="../media/image30.jpeg"/><Relationship Id="rId25" Type="http://schemas.openxmlformats.org/officeDocument/2006/relationships/hyperlink" Target="http://edaplus.info/produce/lancet_fish.html" TargetMode="External"/><Relationship Id="rId26" Type="http://schemas.openxmlformats.org/officeDocument/2006/relationships/image" Target="../media/image31.jpeg"/><Relationship Id="rId27" Type="http://schemas.openxmlformats.org/officeDocument/2006/relationships/hyperlink" Target="http://edaplus.info/produce/chicken.html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edaplus.info/produce/egg.html" TargetMode="External"/><Relationship Id="rId30" Type="http://schemas.openxmlformats.org/officeDocument/2006/relationships/image" Target="../media/image33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daplus.info/produce/liver.html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edaplus.info/produce/pine_nut.html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edaplus.info/produce/camembert.html" TargetMode="External"/><Relationship Id="rId6" Type="http://schemas.openxmlformats.org/officeDocument/2006/relationships/image" Target="../media/image34.jpeg"/><Relationship Id="rId7" Type="http://schemas.openxmlformats.org/officeDocument/2006/relationships/hyperlink" Target="http://edaplus.info/produce/peanut.html" TargetMode="External"/><Relationship Id="rId8" Type="http://schemas.openxmlformats.org/officeDocument/2006/relationships/image" Target="../media/image14.jpeg"/><Relationship Id="rId9" Type="http://schemas.openxmlformats.org/officeDocument/2006/relationships/hyperlink" Target="http://edaplus.info/produce/beef.html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edaplus.info/produce/bean.html" TargetMode="External"/><Relationship Id="rId12" Type="http://schemas.openxmlformats.org/officeDocument/2006/relationships/image" Target="../media/image8.jpeg"/><Relationship Id="rId13" Type="http://schemas.openxmlformats.org/officeDocument/2006/relationships/hyperlink" Target="http://edaplus.info/produce/pea.html" TargetMode="External"/><Relationship Id="rId14" Type="http://schemas.openxmlformats.org/officeDocument/2006/relationships/image" Target="../media/image9.jpeg"/><Relationship Id="rId15" Type="http://schemas.openxmlformats.org/officeDocument/2006/relationships/hyperlink" Target="http://edaplus.info/produce/mutton.html" TargetMode="External"/><Relationship Id="rId16" Type="http://schemas.openxmlformats.org/officeDocument/2006/relationships/image" Target="../media/image23.jpeg"/><Relationship Id="rId17" Type="http://schemas.openxmlformats.org/officeDocument/2006/relationships/hyperlink" Target="http://edaplus.info/produce/pork.html" TargetMode="External"/><Relationship Id="rId18" Type="http://schemas.openxmlformats.org/officeDocument/2006/relationships/image" Target="../media/image22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buckwheat.html" TargetMode="External"/><Relationship Id="rId22" Type="http://schemas.openxmlformats.org/officeDocument/2006/relationships/image" Target="../media/image36.jpeg"/><Relationship Id="rId23" Type="http://schemas.openxmlformats.org/officeDocument/2006/relationships/hyperlink" Target="http://edaplus.info/produce/barley.html" TargetMode="External"/><Relationship Id="rId24" Type="http://schemas.openxmlformats.org/officeDocument/2006/relationships/image" Target="../media/image37.jpeg"/><Relationship Id="rId25" Type="http://schemas.openxmlformats.org/officeDocument/2006/relationships/hyperlink" Target="http://edaplus.info/produce/oatmeal.html" TargetMode="External"/><Relationship Id="rId26" Type="http://schemas.openxmlformats.org/officeDocument/2006/relationships/image" Target="../media/image38.jpeg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daplus.info/produce/pistachios.html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edaplus.info/produce/liver.html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edaplus.info/produce/spinach.html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daplus.info/produce/lentil.html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edaplus.info/produce/pea.html" TargetMode="External"/><Relationship Id="rId10" Type="http://schemas.openxmlformats.org/officeDocument/2006/relationships/image" Target="../media/image9.jpeg"/><Relationship Id="rId11" Type="http://schemas.openxmlformats.org/officeDocument/2006/relationships/hyperlink" Target="http://edaplus.info/produce/buckwheat.html" TargetMode="External"/><Relationship Id="rId12" Type="http://schemas.openxmlformats.org/officeDocument/2006/relationships/image" Target="../media/image36.jpeg"/><Relationship Id="rId13" Type="http://schemas.openxmlformats.org/officeDocument/2006/relationships/hyperlink" Target="http://edaplus.info/produce/pigeon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://edaplus.info/produce/barley.html" TargetMode="External"/><Relationship Id="rId16" Type="http://schemas.openxmlformats.org/officeDocument/2006/relationships/image" Target="../media/image37.jpeg"/><Relationship Id="rId17" Type="http://schemas.openxmlformats.org/officeDocument/2006/relationships/hyperlink" Target="http://edaplus.info/produce/oatmeal.html" TargetMode="External"/><Relationship Id="rId18" Type="http://schemas.openxmlformats.org/officeDocument/2006/relationships/image" Target="../media/image38.jpeg"/><Relationship Id="rId19" Type="http://schemas.openxmlformats.org/officeDocument/2006/relationships/hyperlink" Target="http://edaplus.info/produce/wheat.html" TargetMode="External"/><Relationship Id="rId20" Type="http://schemas.openxmlformats.org/officeDocument/2006/relationships/image" Target="../media/image35.jpeg"/><Relationship Id="rId21" Type="http://schemas.openxmlformats.org/officeDocument/2006/relationships/hyperlink" Target="http://edaplus.info/produce/peanut.html" TargetMode="External"/><Relationship Id="rId22" Type="http://schemas.openxmlformats.org/officeDocument/2006/relationships/image" Target="../media/image14.jpeg"/><Relationship Id="rId23" Type="http://schemas.openxmlformats.org/officeDocument/2006/relationships/hyperlink" Target="http://edaplus.info/produce/cornel.html" TargetMode="External"/><Relationship Id="rId24" Type="http://schemas.openxmlformats.org/officeDocument/2006/relationships/image" Target="../media/image42.jpeg"/><Relationship Id="rId25" Type="http://schemas.openxmlformats.org/officeDocument/2006/relationships/hyperlink" Target="http://edaplus.info/produce/cashew.html" TargetMode="External"/><Relationship Id="rId26" Type="http://schemas.openxmlformats.org/officeDocument/2006/relationships/image" Target="../media/image18.jpeg"/><Relationship Id="rId27" Type="http://schemas.openxmlformats.org/officeDocument/2006/relationships/hyperlink" Target="http://edaplus.info/produce/maize.html" TargetMode="External"/><Relationship Id="rId28" Type="http://schemas.openxmlformats.org/officeDocument/2006/relationships/image" Target="../media/image43.jpeg"/><Relationship Id="rId29" Type="http://schemas.openxmlformats.org/officeDocument/2006/relationships/hyperlink" Target="http://edaplus.info/produce/pine_nut.html" TargetMode="External"/><Relationship Id="rId30" Type="http://schemas.openxmlformats.org/officeDocument/2006/relationships/image" Target="../media/image12.jpeg"/><Relationship Id="rId31" Type="http://schemas.openxmlformats.org/officeDocument/2006/relationships/audio" Target="../media/chimes.wav"/><Relationship Id="rId3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daplus.info/produce/wheat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edaplus.info/produce/barley.html" TargetMode="External"/><Relationship Id="rId4" Type="http://schemas.openxmlformats.org/officeDocument/2006/relationships/image" Target="../media/image37.jpeg"/><Relationship Id="rId5" Type="http://schemas.openxmlformats.org/officeDocument/2006/relationships/hyperlink" Target="http://edaplus.info/produce/bean_sprouts.html" TargetMode="External"/><Relationship Id="rId6" Type="http://schemas.openxmlformats.org/officeDocument/2006/relationships/image" Target="../media/image44.jpeg"/><Relationship Id="rId7" Type="http://schemas.openxmlformats.org/officeDocument/2006/relationships/hyperlink" Target="http://edaplus.info/produce/bean.html" TargetMode="External"/><Relationship Id="rId8" Type="http://schemas.openxmlformats.org/officeDocument/2006/relationships/image" Target="../media/image8.jpeg"/><Relationship Id="rId9" Type="http://schemas.openxmlformats.org/officeDocument/2006/relationships/hyperlink" Target="http://edaplus.info/produce/peanut.html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http://edaplus.info/produce/almond.html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daplus.info/produce/filbert.html" TargetMode="External"/><Relationship Id="rId14" Type="http://schemas.openxmlformats.org/officeDocument/2006/relationships/image" Target="../media/image11.jpeg"/><Relationship Id="rId15" Type="http://schemas.openxmlformats.org/officeDocument/2006/relationships/hyperlink" Target="http://edaplus.info/produce/noodles.html" TargetMode="External"/><Relationship Id="rId16" Type="http://schemas.openxmlformats.org/officeDocument/2006/relationships/image" Target="../media/image45.jpeg"/><Relationship Id="rId17" Type="http://schemas.openxmlformats.org/officeDocument/2006/relationships/image" Target="../media/image46.jpeg"/><Relationship Id="rId18" Type="http://schemas.openxmlformats.org/officeDocument/2006/relationships/hyperlink" Target="http://edaplus.info/directory-fish.html" TargetMode="External"/><Relationship Id="rId19" Type="http://schemas.openxmlformats.org/officeDocument/2006/relationships/image" Target="../media/image47.jpeg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«Волшебный»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6600" spc="-1" strike="noStrike">
                <a:solidFill>
                  <a:srgbClr val="000000"/>
                </a:solidFill>
                <a:latin typeface="Garamond"/>
              </a:rPr>
              <a:t>витамин,</a:t>
            </a:r>
            <a:endParaRPr b="0" lang="en-US" sz="6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4200" y="1500120"/>
            <a:ext cx="8715600" cy="18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имические  элементы  в  живой  клетке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одзаголовок 14"/>
          <p:cNvSpPr/>
          <p:nvPr/>
        </p:nvSpPr>
        <p:spPr>
          <a:xfrm>
            <a:off x="214200" y="4357800"/>
            <a:ext cx="8715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: систематизировать знания о биоэлементах,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ть «волшебный» витами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Arial"/>
              </a:rPr>
              <a:t>Фтор</a:t>
            </a:r>
            <a:endParaRPr b="0" lang="en-US" sz="60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Отвечает за созревание и отвердевание зубной эмали, помогает бороться с кариесом и пародонтоз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Участвует в росте скелета, заживлении костной ткани при переломах, предупреждает остеопороз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тимулирует кроветворе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Снижает накопление радионуклида стронция в костях, уменьшает тяжесть лучевого поражения от этого радионукли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1,5 – 2,0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6" name="Рисунок 13" descr="Скумбр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85960" y="4429080"/>
            <a:ext cx="1571760" cy="50004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14" descr="Тунец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0280" y="43578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5" descr="Хек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072040" y="4071960"/>
            <a:ext cx="990720" cy="8334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6" descr="Минтай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15040" y="4357800"/>
            <a:ext cx="1300320" cy="5619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7" descr="Треска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643880" y="4429080"/>
            <a:ext cx="1342800" cy="5288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8" descr="Пикша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928800" y="5143680"/>
            <a:ext cx="1285920" cy="64260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9" descr="Мойв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09720" y="5072040"/>
            <a:ext cx="1148040" cy="7142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Горбуша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33404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1" descr="Ерш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929200" y="5072040"/>
            <a:ext cx="1214640" cy="7142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22" descr="Камбалана белом фоне"/>
          <p:cNvPicPr/>
          <p:nvPr/>
        </p:nvPicPr>
        <p:blipFill>
          <a:blip r:embed="rId19"/>
          <a:stretch/>
        </p:blipFill>
        <p:spPr>
          <a:xfrm>
            <a:off x="142920" y="5867280"/>
            <a:ext cx="1233360" cy="7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3" descr="Карасьна белом фоне"/>
          <p:cNvPicPr/>
          <p:nvPr/>
        </p:nvPicPr>
        <p:blipFill>
          <a:blip r:embed="rId20"/>
          <a:stretch/>
        </p:blipFill>
        <p:spPr>
          <a:xfrm>
            <a:off x="1500120" y="5862600"/>
            <a:ext cx="1324080" cy="7812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24" descr="Кетана белом фоне"/>
          <p:cNvPicPr/>
          <p:nvPr/>
        </p:nvPicPr>
        <p:blipFill>
          <a:blip r:embed="rId21"/>
          <a:stretch/>
        </p:blipFill>
        <p:spPr>
          <a:xfrm>
            <a:off x="2928960" y="5924520"/>
            <a:ext cx="1376280" cy="71928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25" descr="Кефальна белом фоне"/>
          <p:cNvPicPr/>
          <p:nvPr/>
        </p:nvPicPr>
        <p:blipFill>
          <a:blip r:embed="rId22"/>
          <a:stretch/>
        </p:blipFill>
        <p:spPr>
          <a:xfrm>
            <a:off x="4500720" y="5929200"/>
            <a:ext cx="1481040" cy="69552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6" descr="Корюшкана белом фоне"/>
          <p:cNvPicPr/>
          <p:nvPr/>
        </p:nvPicPr>
        <p:blipFill>
          <a:blip r:embed="rId23"/>
          <a:stretch/>
        </p:blipFill>
        <p:spPr>
          <a:xfrm>
            <a:off x="6143760" y="5929200"/>
            <a:ext cx="1366560" cy="7146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27" descr="Устрицана белом фоне"/>
          <p:cNvPicPr/>
          <p:nvPr/>
        </p:nvPicPr>
        <p:blipFill>
          <a:blip r:embed="rId24"/>
          <a:stretch/>
        </p:blipFill>
        <p:spPr>
          <a:xfrm>
            <a:off x="7677000" y="5286240"/>
            <a:ext cx="1324080" cy="1343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5" name="chimes.wav"/>
      </p:stSnd>
    </p:sndAc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10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324640" cy="585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Garamond"/>
              </a:rPr>
              <a:t>Рефлексия</a:t>
            </a:r>
            <a:endParaRPr b="0" lang="en-US" sz="36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Продолжи фразы:</a:t>
            </a: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ЧИСТАЯ И ЗДОРОВАЯ КОЖА, если….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УТ ШЕЛКОВИСТЫЕ ВОЛОС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Ы БУДЕТЕ ПОРАЖАТЬ ВСЕХ СВОЕЙ ОСВЕДОМЛЕННОСТЬЮ И ИЗУМИТЕЛЬНОЙ ПАМЯТЬЮ, если 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ШЕ СЕРДЦЕ БУДЕТ ВЕЧНЫМ ДВИГАТЕЛЕМ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НОРМАЛЬНОЕ КРОВЯНОЕ ДАВЛ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ПРЕКРАСНОЕ САМОЧУВСТВ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ЖИЗНЕРАДОСТНОЕ НАСТРОЕ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ЗДОРОВОЕ И СВЕЖЕЕ ДЫХАНИЕ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У ВАС БУДЕТ СБАЛАНСИРОВАННЫЙ ОБМЕН ВЕЩЕСТВ, если …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d4d4d"/>
                </a:solidFill>
                <a:latin typeface="Arial"/>
              </a:rPr>
              <a:t>ВАМ  НЕ  ГРОЗИТ  ХУДОБА  И  ЛИШНИЕ  КИЛОГРАММЫ, если…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6600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6" descr="витамины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 rot="20251200">
            <a:off x="-1366560" y="2611080"/>
            <a:ext cx="1185012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660066"/>
                </a:solidFill>
                <a:latin typeface="Monotype Corsiva"/>
              </a:rPr>
              <a:t>Спасибо за внимание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7" name="Picture 17" descr="колбы"/>
          <p:cNvPicPr/>
          <p:nvPr/>
        </p:nvPicPr>
        <p:blipFill>
          <a:blip r:embed="rId2"/>
          <a:stretch/>
        </p:blipFill>
        <p:spPr>
          <a:xfrm>
            <a:off x="8096400" y="0"/>
            <a:ext cx="1047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" name="chimes.wav"/>
      </p:stSnd>
    </p:sndAc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0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75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3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4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52,-103)"/>
                                      </p:to>
                                    </p:set>
                                    <p:set>
                                      <p:cBhvr>
                                        <p:cTn id="755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757" nodeType="afterEffect" fill="hold" presetClass="emph" presetID="27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58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59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60" dur="500" autoRev="1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76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Клетка 4"/>
          <p:cNvPicPr/>
          <p:nvPr/>
        </p:nvPicPr>
        <p:blipFill>
          <a:blip r:embed="rId1"/>
          <a:stretch/>
        </p:blipFill>
        <p:spPr>
          <a:xfrm>
            <a:off x="2357280" y="2928960"/>
            <a:ext cx="4861080" cy="338148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357120" y="2071800"/>
            <a:ext cx="350064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а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Скругленный прямоугольник 6"/>
          <p:cNvSpPr/>
          <p:nvPr/>
        </p:nvSpPr>
        <p:spPr>
          <a:xfrm>
            <a:off x="5357880" y="2071800"/>
            <a:ext cx="3500280" cy="1214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Микро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1281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Garamond"/>
              </a:rPr>
              <a:t>По содержанию в живых клетках </a:t>
            </a: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7128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98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Скругленный прямоугольник 13"/>
          <p:cNvSpPr/>
          <p:nvPr/>
        </p:nvSpPr>
        <p:spPr>
          <a:xfrm>
            <a:off x="1071720" y="1071720"/>
            <a:ext cx="7358040" cy="642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30073"/>
                </a:solidFill>
                <a:latin typeface="Arial"/>
              </a:rPr>
              <a:t>Химические элементы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214200" y="48578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С – 20,7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214200" y="550080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Н – 9,9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Скругленный прямоугольник 17"/>
          <p:cNvSpPr/>
          <p:nvPr/>
        </p:nvSpPr>
        <p:spPr>
          <a:xfrm>
            <a:off x="214200" y="62150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 – </a:t>
            </a: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5,0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214200" y="4143240"/>
            <a:ext cx="171468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О – 62,4 %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Скругленный прямоугольник 21"/>
          <p:cNvSpPr/>
          <p:nvPr/>
        </p:nvSpPr>
        <p:spPr>
          <a:xfrm>
            <a:off x="257184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g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Скругленный прямоугольник 22"/>
          <p:cNvSpPr/>
          <p:nvPr/>
        </p:nvSpPr>
        <p:spPr>
          <a:xfrm>
            <a:off x="59292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Скругленный прямоугольник 23"/>
          <p:cNvSpPr/>
          <p:nvPr/>
        </p:nvSpPr>
        <p:spPr>
          <a:xfrm>
            <a:off x="771516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u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771516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8501040" y="48672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r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Скругленный прямоугольник 26"/>
          <p:cNvSpPr/>
          <p:nvPr/>
        </p:nvSpPr>
        <p:spPr>
          <a:xfrm>
            <a:off x="8501040" y="415296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Скругленный прямоугольник 27"/>
          <p:cNvSpPr/>
          <p:nvPr/>
        </p:nvSpPr>
        <p:spPr>
          <a:xfrm>
            <a:off x="68580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Zn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Скругленный прямоугольник 28"/>
          <p:cNvSpPr/>
          <p:nvPr/>
        </p:nvSpPr>
        <p:spPr>
          <a:xfrm>
            <a:off x="6858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e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Скругленный прямоугольник 29"/>
          <p:cNvSpPr/>
          <p:nvPr/>
        </p:nvSpPr>
        <p:spPr>
          <a:xfrm>
            <a:off x="5929200" y="48578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Скругленный прямоугольник 30"/>
          <p:cNvSpPr/>
          <p:nvPr/>
        </p:nvSpPr>
        <p:spPr>
          <a:xfrm>
            <a:off x="8001000" y="558180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Скругленный прямоугольник 32"/>
          <p:cNvSpPr/>
          <p:nvPr/>
        </p:nvSpPr>
        <p:spPr>
          <a:xfrm>
            <a:off x="2786040" y="56437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Скругленный прямоугольник 33"/>
          <p:cNvSpPr/>
          <p:nvPr/>
        </p:nvSpPr>
        <p:spPr>
          <a:xfrm>
            <a:off x="428616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N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Скругленный прямоугольник 34"/>
          <p:cNvSpPr/>
          <p:nvPr/>
        </p:nvSpPr>
        <p:spPr>
          <a:xfrm>
            <a:off x="3429000" y="414324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30073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Скругленный прямоугольник 35"/>
          <p:cNvSpPr/>
          <p:nvPr/>
        </p:nvSpPr>
        <p:spPr>
          <a:xfrm>
            <a:off x="2786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Скругленный прямоугольник 36"/>
          <p:cNvSpPr/>
          <p:nvPr/>
        </p:nvSpPr>
        <p:spPr>
          <a:xfrm>
            <a:off x="3929040" y="492912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Скругленный прямоугольник 37"/>
          <p:cNvSpPr/>
          <p:nvPr/>
        </p:nvSpPr>
        <p:spPr>
          <a:xfrm>
            <a:off x="3929040" y="5653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C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Скругленный прямоугольник 38"/>
          <p:cNvSpPr/>
          <p:nvPr/>
        </p:nvSpPr>
        <p:spPr>
          <a:xfrm>
            <a:off x="6572160" y="5572080"/>
            <a:ext cx="642960" cy="5619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30073"/>
                </a:solidFill>
                <a:latin typeface="Arial"/>
              </a:rPr>
              <a:t>A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Скругленный прямоугольник 39"/>
          <p:cNvSpPr/>
          <p:nvPr/>
        </p:nvSpPr>
        <p:spPr>
          <a:xfrm>
            <a:off x="250020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1,9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Скругленный прямоугольник 40"/>
          <p:cNvSpPr/>
          <p:nvPr/>
        </p:nvSpPr>
        <p:spPr>
          <a:xfrm>
            <a:off x="6215040" y="3500280"/>
            <a:ext cx="2286000" cy="5716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30073"/>
                </a:solidFill>
                <a:latin typeface="Arial"/>
              </a:rPr>
              <a:t>В сумме 0,1%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Стрелка вниз 31"/>
          <p:cNvSpPr/>
          <p:nvPr/>
        </p:nvSpPr>
        <p:spPr>
          <a:xfrm>
            <a:off x="25718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Стрелка вниз 41"/>
          <p:cNvSpPr/>
          <p:nvPr/>
        </p:nvSpPr>
        <p:spPr>
          <a:xfrm>
            <a:off x="6215040" y="171468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Стрелка вниз 42"/>
          <p:cNvSpPr/>
          <p:nvPr/>
        </p:nvSpPr>
        <p:spPr>
          <a:xfrm>
            <a:off x="92880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Стрелка вниз 43"/>
          <p:cNvSpPr/>
          <p:nvPr/>
        </p:nvSpPr>
        <p:spPr>
          <a:xfrm>
            <a:off x="307188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Стрелка вниз 44"/>
          <p:cNvSpPr/>
          <p:nvPr/>
        </p:nvSpPr>
        <p:spPr>
          <a:xfrm>
            <a:off x="7286760" y="3214800"/>
            <a:ext cx="260280" cy="35712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ffffcc"/>
          </a:solidFill>
          <a:ln w="25560">
            <a:solidFill>
              <a:srgbClr val="bcbc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Garamond"/>
            </a:endParaRPr>
          </a:p>
        </p:txBody>
      </p:sp>
      <p:pic>
        <p:nvPicPr>
          <p:cNvPr id="130" name="Picture 2" descr="C:\Users\SuperGrandMa\Desktop\ВОЛШЕБНЫЙ ВИТАМИН\ХИМИЧЕСКИЕ ЭЛЕМЕНТ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14200" y="1790640"/>
            <a:ext cx="8701200" cy="4734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ff99ff">
                <a:alpha val="50000"/>
              </a:srgbClr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2" name="ding2675.wav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213840" y="266400"/>
            <a:ext cx="892980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Garamond"/>
              </a:rPr>
              <a:t>План характеристики элемента</a:t>
            </a:r>
            <a:endParaRPr b="0" lang="en-US" sz="48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214200" y="1790640"/>
            <a:ext cx="89298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е в организме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очная норма потреблени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продуктах содержитс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лияние дефицита и избытка элемента на здоровье человека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 подлежит ли добавлению в «волшебный» витамин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3" name="chimes.wav"/>
      </p:stSnd>
    </p:sndAc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Калий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Необходим для нормального функционирования всех мышц, особенно сердечной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страняет отеки, способствует выводу воды из организм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гулирует артериальное давление и сердечный рит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беспечивает прохождение импульса по нервной систем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3 – 5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7" name="Рисунок 22" descr="Кураг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3" descr="Чернослив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72080" y="4124160"/>
            <a:ext cx="1014480" cy="1019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24" descr="Изюм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0" y="4143240"/>
            <a:ext cx="905040" cy="10004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5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85920" y="414324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27" descr="Горох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143240"/>
            <a:ext cx="1352520" cy="1000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01000" y="4143240"/>
            <a:ext cx="9288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1280" y="5357880"/>
            <a:ext cx="1000440" cy="94284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0" descr="Кедровые орехи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286080" y="535788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1" descr="Картофель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5572080" y="5357880"/>
            <a:ext cx="986040" cy="9288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32" descr="Арахис на белом фоне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86000" y="5357880"/>
            <a:ext cx="857160" cy="9288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3" descr="Морская капуст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714760" y="4148280"/>
            <a:ext cx="1042920" cy="106668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5" descr="Горчиц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42908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6" descr="Чечевиц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143000" y="5357880"/>
            <a:ext cx="1000080" cy="928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37" descr="Кешью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15080" y="5357880"/>
            <a:ext cx="1119240" cy="8571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38" descr="Грецкий орех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929720" y="5357880"/>
            <a:ext cx="1143000" cy="928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040" y="40932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Сера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3366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Необходима для здоровья кожи, ногтей и воло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казывает противоаллергическое действ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грает роль в свертывании крови, очищает кров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пособствует работе мозга, стимулирует клеточное дыхание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 г (поступает с белками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Рисунок 18" descr="Индейк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280" y="3857760"/>
            <a:ext cx="928800" cy="1004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9" descr="Говядина 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4280" y="4071960"/>
            <a:ext cx="1171800" cy="7858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20" descr="Свинина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71840" y="3929040"/>
            <a:ext cx="1038240" cy="9288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6" descr="Баранина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786120" y="4000680"/>
            <a:ext cx="1152720" cy="85716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34" descr="Печень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43680" y="4000680"/>
            <a:ext cx="1157040" cy="85716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39" descr="Кролик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29240" y="4000680"/>
            <a:ext cx="1076400" cy="85716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40" descr="Щука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643880" y="4214880"/>
            <a:ext cx="1357200" cy="6429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1" descr="Морской окунь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2920" y="5000760"/>
            <a:ext cx="120960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2" descr="Сард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214280" y="5857920"/>
            <a:ext cx="1138320" cy="5713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3" descr="Горбуш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214720" y="5000760"/>
            <a:ext cx="1095120" cy="7714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44" descr="Горох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3357720" y="585792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45" descr="Камбал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500720" y="5000760"/>
            <a:ext cx="1214280" cy="7761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6" descr="Зубат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429160" y="5929200"/>
            <a:ext cx="1443240" cy="4287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7" descr="Курица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786720" y="5000760"/>
            <a:ext cx="1000080" cy="7477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48" descr="Яйцо куринное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8001000" y="5572080"/>
            <a:ext cx="928800" cy="785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99cc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5"/>
          <p:cNvSpPr/>
          <p:nvPr/>
        </p:nvSpPr>
        <p:spPr>
          <a:xfrm>
            <a:off x="8101080" y="1989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33f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66"/>
                </a:solidFill>
                <a:latin typeface="Arial"/>
              </a:rPr>
              <a:t>Цинк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тиоксидант. Препятствует образованию агрессивных активных форм кислорода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дает антивирусным и антитоксическим свойствами, участвует в борьбе с инфекционными болезнями и раком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ходит в состав 200 ферментов и гормона инсулина, регулирующего уровень сахар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нк способствует росту и развитию человека, необходим для полового созревания и продолжения потомства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ивает возможность ощущать вкус, запах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точная потребность: 10 – 15 мг. (но не более 25 мг)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660066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72" name="Рисунок 16" descr="Печень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6120" y="5000760"/>
            <a:ext cx="1157040" cy="714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7" descr="Кедровые орехи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00480" y="5000760"/>
            <a:ext cx="771480" cy="7333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8" descr="Камамбер и бри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4880" y="5000760"/>
            <a:ext cx="1123920" cy="714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9" descr="Арахис на белом фоне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00800" y="5000760"/>
            <a:ext cx="88560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0" descr="Говядина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72160" y="5000760"/>
            <a:ext cx="1171800" cy="72360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Фасо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867800" y="4705200"/>
            <a:ext cx="1133280" cy="1009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2" descr="Горох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2920" y="5929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3" descr="Баранина на белом фоне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357200" y="58579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4" descr="Свинина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2676600" y="5786280"/>
            <a:ext cx="1038240" cy="8575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25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3929040" y="58579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26" descr="Гречка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5286240" y="5929200"/>
            <a:ext cx="1143000" cy="7146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27" descr="Ячневая крупа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676920" y="578628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28" descr="Овсянка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7767720" y="5929200"/>
            <a:ext cx="1162080" cy="7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7" name="chimes.wav"/>
      </p:stSnd>
    </p:sndAc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0040" y="480600"/>
            <a:ext cx="8325000" cy="66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5b5d1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6699"/>
                </a:solidFill>
                <a:latin typeface="Arial"/>
              </a:rPr>
              <a:t>Железо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14200" y="1571760"/>
            <a:ext cx="87012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1. Участвует в образовании гемоглобина в крови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образовании иммунных защитных клеток, требуется для «работы» витаминов группы 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Участвует в синтезе гормонов щитовидной железы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ходит в состав 70 различных фермент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2. Суточная потребность: 10 – 18 м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3. Продукты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87" name="Рисунок 18" descr="Фисташки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3920" y="4071960"/>
            <a:ext cx="1276200" cy="519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9" descr="Печень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4714920"/>
            <a:ext cx="1285920" cy="7142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0" descr="Шпинат 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357800"/>
            <a:ext cx="838080" cy="1143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Чечевица 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786040" y="4214880"/>
            <a:ext cx="933480" cy="7714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4" descr="Горох 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000680" y="4214880"/>
            <a:ext cx="1071360" cy="78588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9" descr="Гречка 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5286240" y="4214880"/>
            <a:ext cx="1214640" cy="79524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40" descr="Голубь 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67640" y="4214880"/>
            <a:ext cx="1019160" cy="819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1" descr="Ячневая крупа 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8001000" y="4214880"/>
            <a:ext cx="1000080" cy="10713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42" descr="Овсянка на белом фоне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2920" y="5572080"/>
            <a:ext cx="1143000" cy="8762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43" descr="Пшеницана белом фоне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500120" y="564372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4" descr="Арахис на белом фоне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2928960" y="5643720"/>
            <a:ext cx="928800" cy="82836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45" descr="Кизил на белом фоне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4119480" y="5643720"/>
            <a:ext cx="952560" cy="780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6" descr="Кешью на белом фоне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5310360" y="5643720"/>
            <a:ext cx="1118880" cy="78552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47" descr="Кукуруза на белом фоне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572160" y="5572080"/>
            <a:ext cx="1071720" cy="85716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48" descr="Кедровые орехи на белом фоне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7786800" y="5572080"/>
            <a:ext cx="1214280" cy="876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31" name="chimes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324640" cy="785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66ccff">
                <a:alpha val="50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Бром</a:t>
            </a:r>
            <a:endParaRPr b="0" lang="en-US" sz="5400" spc="-1" strike="noStrike">
              <a:solidFill>
                <a:srgbClr val="660066"/>
              </a:solidFill>
              <a:latin typeface="Garamond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1571760"/>
            <a:ext cx="9144000" cy="528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1. Регулирует процессы торможения и возбуждения ЦНС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Входит в состав желудочного сока, оказывает влияние на его кислотность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ктивизирует половую функцию, регулирует количество сперматозоидов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2. Суточная потребность: 0,5 – 1 г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3. Продукты</a:t>
            </a:r>
            <a:r>
              <a:rPr b="1" lang="ru-RU" sz="2400" spc="-1" strike="noStrike">
                <a:solidFill>
                  <a:srgbClr val="4d0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Arial"/>
              </a:rPr>
              <a:t>                                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4d004d"/>
                </a:solidFill>
                <a:latin typeface="Arial"/>
              </a:rPr>
              <a:t>а также полезно дышать морским воздухом!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04" name="Рисунок 3" descr="Пшеницана белом фон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71800" y="3786120"/>
            <a:ext cx="1143000" cy="8002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Ячневая крупана белом фоне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19560" y="4286160"/>
            <a:ext cx="895320" cy="8575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5" descr="Бобына белом фонена белом фоне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90840" y="3786120"/>
            <a:ext cx="1209960" cy="7430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Фасольна белом фоне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72080" y="4214880"/>
            <a:ext cx="1133640" cy="10094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7" descr="Арахис на белом фонена белом фоне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0" y="3714840"/>
            <a:ext cx="1071720" cy="10000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Миндальна белом фоне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8072280" y="4143240"/>
            <a:ext cx="1000440" cy="1000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Фундукна белом фоне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00120" y="4929120"/>
            <a:ext cx="1114560" cy="94320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Макаронные изделияна белом фоне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114640" y="4929120"/>
            <a:ext cx="1028520" cy="9432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1" descr="Сметанана белом фоне"/>
          <p:cNvPicPr/>
          <p:nvPr/>
        </p:nvPicPr>
        <p:blipFill>
          <a:blip r:embed="rId17"/>
          <a:stretch/>
        </p:blipFill>
        <p:spPr>
          <a:xfrm>
            <a:off x="4357800" y="4929120"/>
            <a:ext cx="1038240" cy="9669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2" descr="Сельдьна белом фоне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7000920" y="5214960"/>
            <a:ext cx="1685880" cy="71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0" name="chimes.wav"/>
      </p:stSnd>
    </p:sndAc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1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1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34:22Z</dcterms:created>
  <dc:creator>user</dc:creator>
  <dc:description/>
  <dc:language>en-US</dc:language>
  <cp:lastModifiedBy>SuperGrandMa</cp:lastModifiedBy>
  <dcterms:modified xsi:type="dcterms:W3CDTF">2018-05-11T06:21:50Z</dcterms:modified>
  <cp:revision>171</cp:revision>
  <dc:subject/>
  <dc:title>Слайд 1</dc:title>
</cp:coreProperties>
</file>